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6.png" ContentType="image/png"/>
  <Override PartName="/ppt/media/image35.png" ContentType="image/png"/>
  <Override PartName="/ppt/media/image11.png" ContentType="image/png"/>
  <Override PartName="/ppt/media/image48.png" ContentType="image/png"/>
  <Override PartName="/ppt/media/image13.png" ContentType="image/png"/>
  <Override PartName="/ppt/media/image5.jpeg" ContentType="image/jpeg"/>
  <Override PartName="/ppt/media/image50.png" ContentType="image/png"/>
  <Override PartName="/ppt/media/image36.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51.png" ContentType="image/png"/>
  <Override PartName="/ppt/media/image10.png" ContentType="image/png"/>
  <Override PartName="/ppt/media/image47.png" ContentType="image/png"/>
  <Override PartName="/ppt/media/image49.png" ContentType="image/png"/>
  <Override PartName="/ppt/media/image12.png" ContentType="image/png"/>
  <Override PartName="/ppt/media/image39.png" ContentType="image/png"/>
  <Override PartName="/ppt/media/image9.png" ContentType="image/png"/>
  <Override PartName="/ppt/media/image37.png" ContentType="image/png"/>
  <Override PartName="/ppt/media/image7.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2CC09-F2FE-40DA-85F2-D78FCC2F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0D8C-1F5F-42D0-B3A6-7BA73ED84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57C7A-2E2B-4ED6-B0CE-93B0224A5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E0411-2059-430E-9E53-F00CD6D38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75BE4-DD22-4C69-B917-240B7088B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52594-BC1A-43D7-B623-9AA872492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7427E-5767-4753-84E8-7638E7921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44FC2-A88D-4591-9DAC-AEC39A155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27FFD-2667-49E5-86CB-E8247DEE1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958D9-37E8-438E-84A8-15F837D30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2ED6D-38EE-40A6-A455-E51541898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A033-BB42-453D-B8C4-9F1D84C31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5C4CE-DC47-4030-92B5-3944B1AA4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414E4-E539-4043-8679-7BA4423CA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10155-2C76-458A-B230-5C71561A7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6DB7A-5C03-41A9-B983-B52A52B2C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6F862-C9D5-4595-826F-7B4AFDBF2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4C836-36BE-4E64-9E06-3179B30D3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BA3CAA-AE44-4501-A7C5-00AEE3C5E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684DB-8FFE-49AD-99B0-78C132782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B126D0-3CAE-4955-90C4-22ED31DAE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9C390-B47A-49C3-B154-F80B95B65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2A11-E200-4152-BD0F-DEA0E2B3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FA601-17D6-41F2-AC91-A51FB8FE9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06BEAA-EC15-4169-B864-C2D518878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47383-34AE-4B73-86E4-8D5C1F70B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AD9BD-7E99-45C5-9DE6-14A529899C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BFEAF-06F0-4E77-989B-F2E83F43C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69055-4E7E-42AB-8A09-ED29C42B7B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E90714-6FD5-487F-9344-35A3793AE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F74680-5A0D-4691-9B86-A52EC0E179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FE3A8-42EE-4608-8475-6CA8D8AB5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75CAF-672F-45C1-A825-1949C6ADC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2CC1-F987-459A-AFD4-C3BDA0C8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0AF22-D1BA-4D90-8258-12D792127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4FEC8-0840-4E7E-98F9-3E846F21C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8DF56-2D7A-41C4-B76F-1E338C1CF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6BC68E-2446-4F9E-85E2-DD9228F303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53285-45B7-4133-AD13-246D096D8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3B9F8-5A40-4E07-9B05-0D139DA41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47F3D-C229-4ABC-8539-63B99056B8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3F66B3-754D-44A5-B2E4-EC59F36B2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48419-80EE-4BD3-A686-E8D27CC83D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5DEC9-20D1-4102-9A9F-7183A3745F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0F5C-F4F5-4629-837B-4BEF89F64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58DEF-FD28-451C-B76F-26A700E84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B36F6B-63EF-47E4-A571-1843462EAF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1939DE-95A9-4B54-A4C3-921C768DA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53993-2FE6-4F41-ACED-1476352C6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B32EAF-55FE-47D6-A31C-61151C868A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F76D6-CD39-429C-8F66-1EC0A8F02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4EE3E-8595-498E-9DDC-B1386BD5B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3726B-B370-4916-B596-646C2D81D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D37BBD-A978-4CFE-98CB-7815AC848C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13048E-D837-4EF6-9312-F7494353A5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AE3AA-B6FE-436D-8881-2E1DE33CF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6F262-92ED-4266-8234-A6F1D86A5A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0D27AE-9454-4589-87F6-CB95694CD6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B6CE8-1272-4A98-A2CA-1EF4700E58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1D1717-A969-41A5-8EDD-2841C3683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0265D-2F35-4433-A91F-FE12CCB7C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EAF243-15FF-4D09-8276-A0AFA906AC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B0947-35D3-454A-9D4B-E314077BAC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A876A-D5AF-4187-B5FF-519455A99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D036EC-ECA5-4ADA-8205-8C40C0F09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50C2A-A648-4BF7-9BF7-18A212515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3F72-39EE-4096-B406-F8EAD5E8D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63BCF2-62D7-42BB-B666-D11E193CF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53E8A6-3337-448F-B3E7-5F4F604653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9483D9-DFAE-4523-A1D9-DD9D8BE295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EE887D-D1E5-499B-83FB-8460C5731F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124EB-92B5-4B56-8353-D13420CF2A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CEC00B-3032-4C7E-ADE4-231127924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7C46D-D618-4C79-8978-CE89B6AA0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61B8B-36EB-4039-A8AD-2BE867507F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66D1F-0EBA-4200-AA95-C12ABC2FBE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9426B-D0DD-45B6-A05D-2E2F028416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9EF5-1FF5-4932-A165-30B63CADD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793D8-79FA-45E2-B629-5A0B11C7C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1530A-4DB2-4A25-9F79-6360DB4EB5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C5BBB-FEE1-4447-972F-B20FBEF9B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DE1D42-C853-4D86-A39C-385999E6D6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80E755-057C-4771-B09C-61F2077606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258C30-02CE-4734-89E5-82F54B4F4E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7A77F-C6DB-40BC-AF10-3CFF76F9F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21D3D2-BDF5-486A-9A0B-250E22AEC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E64BFA-3C8A-43D8-A58A-A3CF2EE4F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E094C7-A65B-4757-9F1F-7D1675917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EA6ED-79D8-428E-A481-AAA63E0E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5477BF-D9E9-496A-A37E-7F4314C7A1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9679D-3929-4278-A65A-1E2ACBBA4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9C453-FE80-4E9F-9780-6111A91846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36EB5-B485-4417-99A7-6CF3B5949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38215B-30AF-4BD1-974B-69F0BFDA43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BE8441-1118-4880-977C-06071F5C79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1E5682-AA5B-4E56-8D80-223AF0C756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2E24-EC5F-40D3-A03C-C23BD20945F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29CD-A42D-480F-9C69-7398CB5A40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2A53-6E9E-4486-92C8-C77767819947}"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91B7-E0B9-4842-8812-7CCCB2B191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0A4D-45A5-4779-9D46-DE6210C1D05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AFDB-67BD-442A-814B-8E27D683D5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A215-E792-4616-BFFD-268197C307C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C827-F38E-4BB7-AA9D-0FF39B71BBA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A799-6894-410C-8E9F-A7AF9EE67C51}"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7583-688B-45C3-9D03-B3729FD109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6923-7359-4C97-B053-4589EE7FD04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7F20-E82D-4995-8004-09441F7359B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B417-D196-49B5-829E-FB736D5E86A1}"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F048-F58A-4345-B1DD-F5ED64C7E2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1ECB-AD42-4ECF-B735-95BF152A8881}"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0716-0FE7-464E-8BED-153CDCF2D61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commerce.health.state.ny.us/hcsportal/hcs_home.portal"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commerce.health.state.ny.us/" TargetMode="External"/><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hyperlink" Target="http://www.health.ny.gov/" TargetMode="External"/><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hyperlink" Target="https://commerce.health.state.ny.us/hcsportal" TargetMode="External"/><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hyperlink" Target="mailto:dtcatdoh@health.state.ny.us" TargetMode="External"/><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mailto:apg@health.state.ny.us" TargetMode="External"/><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s://www.emedny.org/contacts/telephone%20quick%20reference.pdf" TargetMode="External"/><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9040" y="762120"/>
            <a:ext cx="7772400" cy="2822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Janet Baggetta</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NYS Department of Health</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December 2, 2011</a:t>
            </a:r>
            <a:endParaRPr b="0" lang="en-US" sz="2500" spc="-1" strike="noStrike">
              <a:solidFill>
                <a:srgbClr val="000000"/>
              </a:solidFill>
              <a:latin typeface="Lucida Sans Unicode"/>
            </a:endParaRPr>
          </a:p>
        </p:txBody>
      </p:sp>
      <p:sp>
        <p:nvSpPr>
          <p:cNvPr id="37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34A7-0DD0-4BC7-80D5-D685E6751D23}"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pita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rt 86-8.4 requires capital to be updated in the APG Clinic rat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igent Car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o be eligible, a facility must have minimum of 5% Free plus Uninsured/Self-Pay visits out of Total Clinic threshold visi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cal Analysi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Due to shift to Primary Care, are receiving data requests from other agencies within the Department</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acility Data Analysis Repor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per Payment Limit (UP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rior UPL was approved contingent on improvement of the data.  Many proxies were calculated for the 2006 data.</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alculation uses:</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n average cost per visit calculated using cost report data.</a:t>
            </a:r>
            <a:endParaRPr b="0" lang="en-US" sz="15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MS is requesting the Department work towards developing a ratio of cost to charges using the cost report data and apply these ratios to the charges on the claim in eMedNY to determine costs.</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39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B556-663E-4FE9-A8D7-B1FD2FC3208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3" descr=""/>
          <p:cNvPicPr/>
          <p:nvPr/>
        </p:nvPicPr>
        <p:blipFill>
          <a:blip r:embed="rId1"/>
          <a:stretch/>
        </p:blipFill>
        <p:spPr>
          <a:xfrm>
            <a:off x="633240" y="1006560"/>
            <a:ext cx="8010720" cy="2535120"/>
          </a:xfrm>
          <a:prstGeom prst="rect">
            <a:avLst/>
          </a:prstGeom>
          <a:ln w="0">
            <a:noFill/>
          </a:ln>
        </p:spPr>
      </p:pic>
      <p:sp>
        <p:nvSpPr>
          <p:cNvPr id="402" name="PlaceHolder 1"/>
          <p:cNvSpPr>
            <a:spLocks noGrp="1"/>
          </p:cNvSpPr>
          <p:nvPr>
            <p:ph type="subTitle"/>
          </p:nvPr>
        </p:nvSpPr>
        <p:spPr>
          <a:xfrm>
            <a:off x="3047760" y="3428640"/>
            <a:ext cx="5562360" cy="1219320"/>
          </a:xfrm>
          <a:prstGeom prst="rect">
            <a:avLst/>
          </a:prstGeom>
          <a:noFill/>
          <a:ln w="0">
            <a:noFill/>
          </a:ln>
        </p:spPr>
        <p:txBody>
          <a:bodyPr lIns="45720" rIns="45720" tIns="46800" bIns="46800" anchor="t">
            <a:noAutofit/>
          </a:bodyPr>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HCS Account</a:t>
            </a:r>
            <a:endParaRPr b="0" lang="en-US" sz="24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Access Permission to D&amp;TC Applications</a:t>
            </a:r>
            <a:endParaRPr b="0" lang="en-US" sz="24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Steps to Download the AHCF software</a:t>
            </a:r>
            <a:endParaRPr b="0" lang="en-US" sz="2400" spc="-1" strike="noStrike">
              <a:solidFill>
                <a:srgbClr val="000000"/>
              </a:solidFill>
              <a:latin typeface="Lucida Sans Unicode"/>
            </a:endParaRPr>
          </a:p>
        </p:txBody>
      </p:sp>
      <p:sp>
        <p:nvSpPr>
          <p:cNvPr id="40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816B-6926-48DE-8D21-167B090A00AE}"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76160"/>
            <a:ext cx="8229600" cy="43304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 order to access the AHCF Cost Report Software, providers </a:t>
            </a:r>
            <a:r>
              <a:rPr b="0" lang="en-US" sz="1700" spc="-1" strike="noStrike" u="sng">
                <a:solidFill>
                  <a:srgbClr val="000000"/>
                </a:solidFill>
                <a:uFillTx/>
                <a:latin typeface="Times New Roman"/>
                <a:ea typeface="Times New Roman"/>
              </a:rPr>
              <a:t>must</a:t>
            </a:r>
            <a:r>
              <a:rPr b="0" lang="en-US" sz="1700" spc="-1" strike="noStrike">
                <a:solidFill>
                  <a:srgbClr val="000000"/>
                </a:solidFill>
                <a:latin typeface="Times New Roman"/>
                <a:ea typeface="Times New Roman"/>
              </a:rPr>
              <a:t> have a HCS accoun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or new facilities (or if there is no HCS coordinator at the facility), contact Mr. Peter Farr of NYS Department of Health at (518) 402-1004.</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re is a coordinator at the facility, the coordinator can set up an HCS account for the individual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act NYS Department of Health Commerce Accounts Management Unit Support (CAMU) at 1-866-529-1890.</a:t>
            </a:r>
            <a:endParaRPr b="0" lang="en-US" sz="16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General questions: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tact Ms. Phyllis Casale of this Bureau at (518) 474-3020</a:t>
            </a:r>
            <a:r>
              <a:rPr b="0" lang="en-US" sz="1400" spc="-1" strike="noStrike">
                <a:solidFill>
                  <a:srgbClr val="000000"/>
                </a:solidFill>
                <a:latin typeface="Times New Roman"/>
                <a:ea typeface="Times New Roman"/>
              </a:rPr>
              <a:t>.</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Keep Accounts up to date</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a staff leaves organization, have the account deleted by calling CAMU at </a:t>
            </a:r>
            <a:endParaRPr b="0" lang="en-US" sz="16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866-529-1890.</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mail blast for this webinar was sent to 880 email addresses and 135 were returne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0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909B-2C71-43AA-B263-F612E1484A0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6" name="Title 3" descr=""/>
          <p:cNvPicPr/>
          <p:nvPr/>
        </p:nvPicPr>
        <p:blipFill>
          <a:blip r:embed="rId1"/>
          <a:stretch/>
        </p:blipFill>
        <p:spPr>
          <a:xfrm>
            <a:off x="457200" y="53640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6483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nce providers have a HCS account, they must complete a D&amp;TC Access Application Form.</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CS homepage </a:t>
            </a:r>
            <a:r>
              <a:rPr b="0" lang="en-US" sz="1400" spc="-1" strike="noStrike">
                <a:solidFill>
                  <a:srgbClr val="ffc000"/>
                </a:solidFill>
                <a:latin typeface="Times New Roman"/>
                <a:ea typeface="Times New Roman"/>
              </a:rPr>
              <a:t>(</a:t>
            </a:r>
            <a:r>
              <a:rPr b="0" lang="en-US" sz="1400" spc="-1" strike="noStrike" u="sng">
                <a:solidFill>
                  <a:srgbClr val="ff8119"/>
                </a:solidFill>
                <a:uFillTx/>
                <a:latin typeface="Times New Roman"/>
                <a:ea typeface="Times New Roman"/>
                <a:hlinkClick r:id="rId1"/>
              </a:rPr>
              <a:t>https://commerce.health.state.ny.us/hcsportal/hcs_home.portal</a:t>
            </a:r>
            <a:r>
              <a:rPr b="0" lang="en-US" sz="1400" spc="-1" strike="noStrike">
                <a:solidFill>
                  <a:srgbClr val="ffc000"/>
                </a:solidFill>
                <a:latin typeface="Times New Roman"/>
                <a:ea typeface="Times New Roman"/>
              </a:rPr>
              <a:t>)</a:t>
            </a:r>
            <a:endParaRPr b="0" lang="en-US" sz="14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lick “Applications” from the Title Bar at the top of the scree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ind “D&amp;TC Cost Report” application by clicking “D” at the top “Browse by”</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lick “i” in the Profile column of “D&amp;TC Cost Report” applicatio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roll down to find “</a:t>
            </a:r>
            <a:r>
              <a:rPr b="0" i="1" lang="en-US" sz="1300" spc="-1" strike="noStrike" u="sng">
                <a:solidFill>
                  <a:srgbClr val="000000"/>
                </a:solidFill>
                <a:uFillTx/>
                <a:latin typeface="Times New Roman"/>
                <a:ea typeface="Times New Roman"/>
              </a:rPr>
              <a:t>BPACR D&amp;TC Access Application Form</a:t>
            </a:r>
            <a:r>
              <a:rPr b="0" i="1"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 in “Access Information”</a:t>
            </a:r>
            <a:endParaRPr b="0" lang="en-US" sz="1300" spc="-1" strike="noStrike">
              <a:solidFill>
                <a:srgbClr val="000000"/>
              </a:solidFill>
              <a:latin typeface="Lucida Sans Unicode"/>
            </a:endParaRPr>
          </a:p>
          <a:p>
            <a:pPr lvl="2" marL="858960" indent="-228600">
              <a:lnSpc>
                <a:spcPct val="80000"/>
              </a:lnSpc>
              <a:spcBef>
                <a:spcPts val="349"/>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nt out and complete the Form </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individual user must complete the Section I of the Form and a HCS coordinator must complete the Section I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ignatures for the user and the HCS coordinator on the D&amp;TC Access Application Form must be </a:t>
            </a:r>
            <a:r>
              <a:rPr b="0" lang="en-US" sz="1700" spc="-1" strike="noStrike" u="sng">
                <a:solidFill>
                  <a:srgbClr val="000000"/>
                </a:solidFill>
                <a:uFillTx/>
                <a:latin typeface="Times New Roman"/>
                <a:ea typeface="Times New Roman"/>
              </a:rPr>
              <a:t>NOTARIZED</a:t>
            </a:r>
            <a:r>
              <a:rPr b="0" lang="en-US" sz="1700" spc="-1" strike="noStrike">
                <a:solidFill>
                  <a:srgbClr val="000000"/>
                </a:solidFill>
                <a:latin typeface="Times New Roman"/>
                <a:ea typeface="Times New Roman"/>
              </a:rPr>
              <a: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Send the completed Form to the following address by mail since the original Form is required.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r. John W. Gahan, Jr.</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ureau of Primary &amp; Acute Care Reimbursement</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orning Tower Building, Room 1043</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mpire State Plaza</a:t>
            </a:r>
            <a:endParaRPr b="0" lang="en-US" sz="1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lbany, NY 12237</a:t>
            </a:r>
            <a:endParaRPr b="0" lang="en-US" sz="1400" spc="-1" strike="noStrike">
              <a:solidFill>
                <a:srgbClr val="000000"/>
              </a:solidFill>
              <a:latin typeface="Lucida Sans Unicode"/>
            </a:endParaRPr>
          </a:p>
        </p:txBody>
      </p:sp>
      <p:sp>
        <p:nvSpPr>
          <p:cNvPr id="408"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E152-3841-4B9F-BEBE-B4441CD287A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09" name="Title 3" descr=""/>
          <p:cNvPicPr/>
          <p:nvPr/>
        </p:nvPicPr>
        <p:blipFill>
          <a:blip r:embed="rId2"/>
          <a:stretch/>
        </p:blipFill>
        <p:spPr>
          <a:xfrm>
            <a:off x="457200" y="122400"/>
            <a:ext cx="8229600" cy="162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560" y="1371600"/>
            <a:ext cx="8458200" cy="50292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tart the browser and enter the URL – </a:t>
            </a:r>
            <a:r>
              <a:rPr b="0" lang="en-US" sz="2100" spc="-1" strike="noStrike" u="sng">
                <a:solidFill>
                  <a:srgbClr val="ff8119"/>
                </a:solidFill>
                <a:uFillTx/>
                <a:latin typeface="Times New Roman"/>
                <a:ea typeface="Times New Roman"/>
                <a:hlinkClick r:id="rId1"/>
              </a:rPr>
              <a:t>https://commerce.health.state.ny.u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s a secure website and you must use </a:t>
            </a:r>
            <a:r>
              <a:rPr b="1" i="1" lang="en-US" sz="1800" spc="-1" strike="noStrike">
                <a:solidFill>
                  <a:srgbClr val="000000"/>
                </a:solidFill>
                <a:latin typeface="Times New Roman"/>
                <a:ea typeface="Times New Roman"/>
              </a:rPr>
              <a:t>https</a:t>
            </a:r>
            <a:r>
              <a:rPr b="0" lang="en-US" sz="1800" spc="-1" strike="noStrike">
                <a:solidFill>
                  <a:srgbClr val="000000"/>
                </a:solidFill>
                <a:latin typeface="Times New Roman"/>
                <a:ea typeface="Times New Roman"/>
              </a:rPr>
              <a:t>.</a:t>
            </a:r>
            <a:endParaRPr b="0" lang="en-US" sz="1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nter the appropriate </a:t>
            </a:r>
            <a:r>
              <a:rPr b="1" lang="en-US" sz="2100" spc="-1" strike="noStrike">
                <a:solidFill>
                  <a:srgbClr val="000000"/>
                </a:solidFill>
                <a:latin typeface="Times New Roman"/>
                <a:ea typeface="Times New Roman"/>
              </a:rPr>
              <a:t>User Id</a:t>
            </a:r>
            <a:r>
              <a:rPr b="0" lang="en-US" sz="2100" spc="-1" strike="noStrike">
                <a:solidFill>
                  <a:srgbClr val="000000"/>
                </a:solidFill>
                <a:latin typeface="Times New Roman"/>
                <a:ea typeface="Times New Roman"/>
              </a:rPr>
              <a:t> and </a:t>
            </a:r>
            <a:r>
              <a:rPr b="1" lang="en-US" sz="2100" spc="-1" strike="noStrike">
                <a:solidFill>
                  <a:srgbClr val="000000"/>
                </a:solidFill>
                <a:latin typeface="Times New Roman"/>
                <a:ea typeface="Times New Roman"/>
              </a:rPr>
              <a:t>Password</a:t>
            </a:r>
            <a:r>
              <a:rPr b="0" lang="en-US" sz="2100" spc="-1" strike="noStrike">
                <a:solidFill>
                  <a:srgbClr val="000000"/>
                </a:solidFill>
                <a:latin typeface="Times New Roman"/>
                <a:ea typeface="Times New Roman"/>
              </a:rPr>
              <a:t>, then click the </a:t>
            </a:r>
            <a:r>
              <a:rPr b="1" lang="en-US" sz="2100" spc="-1" strike="noStrike">
                <a:solidFill>
                  <a:srgbClr val="000000"/>
                </a:solidFill>
                <a:latin typeface="Times New Roman"/>
                <a:ea typeface="Times New Roman"/>
              </a:rPr>
              <a:t>Sign In</a:t>
            </a:r>
            <a:r>
              <a:rPr b="0" lang="en-US" sz="2100" spc="-1" strike="noStrike">
                <a:solidFill>
                  <a:srgbClr val="000000"/>
                </a:solidFill>
                <a:latin typeface="Times New Roman"/>
                <a:ea typeface="Times New Roman"/>
              </a:rPr>
              <a:t> button or hit </a:t>
            </a:r>
            <a:r>
              <a:rPr b="1" lang="en-US" sz="2100" spc="-1" strike="noStrike">
                <a:solidFill>
                  <a:srgbClr val="000000"/>
                </a:solidFill>
                <a:latin typeface="Times New Roman"/>
                <a:ea typeface="Times New Roman"/>
              </a:rPr>
              <a:t>Enter</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 the HCS home page, select </a:t>
            </a:r>
            <a:r>
              <a:rPr b="1" lang="en-US" sz="2100" spc="-1" strike="noStrike">
                <a:solidFill>
                  <a:srgbClr val="000000"/>
                </a:solidFill>
                <a:latin typeface="Times New Roman"/>
                <a:ea typeface="Times New Roman"/>
              </a:rPr>
              <a:t>D&amp;TC Cost Report</a:t>
            </a:r>
            <a:r>
              <a:rPr b="0" lang="en-US" sz="2100" spc="-1" strike="noStrike">
                <a:solidFill>
                  <a:srgbClr val="000000"/>
                </a:solidFill>
                <a:latin typeface="Times New Roman"/>
                <a:ea typeface="Times New Roman"/>
              </a:rPr>
              <a:t> under </a:t>
            </a:r>
            <a:r>
              <a:rPr b="1" lang="en-US" sz="2100" spc="-1" strike="noStrike">
                <a:solidFill>
                  <a:srgbClr val="000000"/>
                </a:solidFill>
                <a:latin typeface="Times New Roman"/>
                <a:ea typeface="Times New Roman"/>
              </a:rPr>
              <a:t>My Applications </a:t>
            </a:r>
            <a:r>
              <a:rPr b="0" lang="en-US" sz="2100" spc="-1" strike="noStrike">
                <a:solidFill>
                  <a:srgbClr val="000000"/>
                </a:solidFill>
                <a:latin typeface="Times New Roman"/>
                <a:ea typeface="Times New Roman"/>
              </a:rPr>
              <a:t>(left-hand side of the screen).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f you do not see this application under </a:t>
            </a:r>
            <a:r>
              <a:rPr b="1" lang="en-US" sz="1800" spc="-1" strike="noStrike">
                <a:solidFill>
                  <a:srgbClr val="000000"/>
                </a:solidFill>
                <a:latin typeface="Times New Roman"/>
                <a:ea typeface="Times New Roman"/>
              </a:rPr>
              <a:t>My Applications</a:t>
            </a:r>
            <a:r>
              <a:rPr b="0" lang="en-US" sz="1800" spc="-1" strike="noStrike">
                <a:solidFill>
                  <a:srgbClr val="000000"/>
                </a:solidFill>
                <a:latin typeface="Times New Roman"/>
                <a:ea typeface="Times New Roman"/>
              </a:rPr>
              <a:t>, from the Title Bar at the top of the screen, choose </a:t>
            </a:r>
            <a:r>
              <a:rPr b="1" lang="en-US" sz="1800" spc="-1" strike="noStrike">
                <a:solidFill>
                  <a:srgbClr val="000000"/>
                </a:solidFill>
                <a:latin typeface="Times New Roman"/>
                <a:ea typeface="Times New Roman"/>
              </a:rPr>
              <a:t>Applications</a:t>
            </a:r>
            <a:r>
              <a:rPr b="0" lang="en-US" sz="1800" spc="-1" strike="noStrike">
                <a:solidFill>
                  <a:srgbClr val="000000"/>
                </a:solidFill>
                <a:latin typeface="Times New Roman"/>
                <a:ea typeface="Times New Roman"/>
              </a:rPr>
              <a:t> and choose </a:t>
            </a:r>
            <a:r>
              <a:rPr b="1" lang="en-US" sz="1800" spc="-1" strike="noStrike">
                <a:solidFill>
                  <a:srgbClr val="000000"/>
                </a:solidFill>
                <a:latin typeface="Times New Roman"/>
                <a:ea typeface="Times New Roman"/>
              </a:rPr>
              <a:t>D&amp;TC Cost Report</a:t>
            </a:r>
            <a:r>
              <a:rPr b="0" lang="en-US" sz="1800" spc="-1" strike="noStrike">
                <a:solidFill>
                  <a:srgbClr val="000000"/>
                </a:solidFill>
                <a:latin typeface="Times New Roman"/>
                <a:ea typeface="Times New Roman"/>
              </a:rPr>
              <a:t>.  Clicking on the green + sign in the column on the right will add this application to your  </a:t>
            </a:r>
            <a:r>
              <a:rPr b="1" lang="en-US" sz="1800" spc="-1" strike="noStrike">
                <a:solidFill>
                  <a:srgbClr val="000000"/>
                </a:solidFill>
                <a:latin typeface="Times New Roman"/>
                <a:ea typeface="Times New Roman"/>
              </a:rPr>
              <a:t>My Applications</a:t>
            </a:r>
            <a:r>
              <a:rPr b="0" lang="en-US" sz="1800" spc="-1" strike="noStrike">
                <a:solidFill>
                  <a:srgbClr val="000000"/>
                </a:solidFill>
                <a:latin typeface="Times New Roman"/>
                <a:ea typeface="Times New Roman"/>
              </a:rPr>
              <a:t> listing.</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Click</a:t>
            </a:r>
            <a:r>
              <a:rPr b="0" lang="en-US" sz="2100" spc="-1" strike="noStrike">
                <a:solidFill>
                  <a:srgbClr val="000000"/>
                </a:solidFill>
                <a:latin typeface="Times New Roman"/>
                <a:ea typeface="Times New Roman"/>
              </a:rPr>
              <a:t> on the available software to start your download.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hoose </a:t>
            </a:r>
            <a:r>
              <a:rPr b="0" i="1" lang="en-US" sz="2100" spc="-1" strike="noStrike">
                <a:solidFill>
                  <a:srgbClr val="000000"/>
                </a:solidFill>
                <a:latin typeface="Times New Roman"/>
                <a:ea typeface="Times New Roman"/>
              </a:rPr>
              <a:t>Save to Disk</a:t>
            </a:r>
            <a:r>
              <a:rPr b="0" lang="en-US" sz="2100" spc="-1" strike="noStrike">
                <a:solidFill>
                  <a:srgbClr val="000000"/>
                </a:solidFill>
                <a:latin typeface="Times New Roman"/>
                <a:ea typeface="Times New Roman"/>
              </a:rPr>
              <a:t> when prompted (note the directory where the file is saved).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ea typeface="Times New Roman"/>
              </a:rPr>
              <a:t>Double-click</a:t>
            </a:r>
            <a:r>
              <a:rPr b="0" lang="en-US" sz="2100" spc="-1" strike="noStrike">
                <a:solidFill>
                  <a:srgbClr val="000000"/>
                </a:solidFill>
                <a:latin typeface="Times New Roman"/>
                <a:ea typeface="Times New Roman"/>
              </a:rPr>
              <a:t> on the downloaded file to install the software.</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11"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97B2-B4F9-45CD-B278-526FE3DAC1C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12" name="Title 3" descr=""/>
          <p:cNvPicPr/>
          <p:nvPr/>
        </p:nvPicPr>
        <p:blipFill>
          <a:blip r:embed="rId2"/>
          <a:stretch/>
        </p:blipFill>
        <p:spPr>
          <a:xfrm>
            <a:off x="324000" y="274680"/>
            <a:ext cx="8491320" cy="116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3" descr=""/>
          <p:cNvPicPr/>
          <p:nvPr/>
        </p:nvPicPr>
        <p:blipFill>
          <a:blip r:embed="rId1"/>
          <a:stretch/>
        </p:blipFill>
        <p:spPr>
          <a:xfrm>
            <a:off x="689040" y="1755720"/>
            <a:ext cx="8083440" cy="1828800"/>
          </a:xfrm>
          <a:prstGeom prst="rect">
            <a:avLst/>
          </a:prstGeom>
          <a:ln w="0">
            <a:noFill/>
          </a:ln>
        </p:spPr>
      </p:pic>
      <p:sp>
        <p:nvSpPr>
          <p:cNvPr id="414"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Times New Roman"/>
                <a:ea typeface="Times New Roman"/>
              </a:rPr>
              <a:t>Configuration Screen</a:t>
            </a:r>
            <a:endParaRPr b="0" lang="en-US" sz="2800" spc="-1" strike="noStrike">
              <a:solidFill>
                <a:srgbClr val="000000"/>
              </a:solidFill>
              <a:latin typeface="Lucida Sans Unicode"/>
            </a:endParaRPr>
          </a:p>
        </p:txBody>
      </p:sp>
      <p:sp>
        <p:nvSpPr>
          <p:cNvPr id="41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9BF9-E102-404E-9F41-5AA28B31B7D4}"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9" descr=""/>
          <p:cNvPicPr/>
          <p:nvPr/>
        </p:nvPicPr>
        <p:blipFill>
          <a:blip r:embed="rId1"/>
          <a:stretch/>
        </p:blipFill>
        <p:spPr>
          <a:xfrm>
            <a:off x="457200" y="274680"/>
            <a:ext cx="8229600" cy="1243080"/>
          </a:xfrm>
          <a:prstGeom prst="rect">
            <a:avLst/>
          </a:prstGeom>
          <a:ln w="0">
            <a:noFill/>
          </a:ln>
        </p:spPr>
      </p:pic>
      <p:pic>
        <p:nvPicPr>
          <p:cNvPr id="417" name="Picture 5" descr=""/>
          <p:cNvPicPr/>
          <p:nvPr/>
        </p:nvPicPr>
        <p:blipFill>
          <a:blip r:embed="rId2"/>
          <a:stretch/>
        </p:blipFill>
        <p:spPr>
          <a:xfrm>
            <a:off x="465120" y="1444680"/>
            <a:ext cx="4024440" cy="4727520"/>
          </a:xfrm>
          <a:prstGeom prst="rect">
            <a:avLst/>
          </a:prstGeom>
          <a:ln w="0">
            <a:noFill/>
          </a:ln>
        </p:spPr>
      </p:pic>
      <p:sp>
        <p:nvSpPr>
          <p:cNvPr id="418" name=""/>
          <p:cNvSpPr txBox="1"/>
          <p:nvPr/>
        </p:nvSpPr>
        <p:spPr>
          <a:xfrm>
            <a:off x="4644720" y="1444680"/>
            <a:ext cx="4041720" cy="4727520"/>
          </a:xfrm>
          <a:prstGeom prst="rect">
            <a:avLst/>
          </a:prstGeom>
          <a:noFill/>
          <a:ln w="0">
            <a:noFill/>
          </a:ln>
        </p:spPr>
        <p:txBody>
          <a:bodyPr lIns="90000" rIns="90000" tIns="46800" bIns="46800" anchor="t">
            <a:normAutofit/>
          </a:bodyPr>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mportant to select Services</a:t>
            </a: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resents the different clinic environments</a:t>
            </a: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y selecting different Services, the software will make available the appropriate screens for each Service.</a:t>
            </a:r>
            <a:endParaRPr b="0" lang="en-US" sz="2400" spc="-1" strike="noStrike">
              <a:solidFill>
                <a:srgbClr val="000000"/>
              </a:solidFill>
              <a:latin typeface="Lucida Sans Unicode"/>
            </a:endParaRPr>
          </a:p>
        </p:txBody>
      </p:sp>
      <p:sp>
        <p:nvSpPr>
          <p:cNvPr id="41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A050-D50E-4221-AB0C-5CED5533E68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Title 3" descr=""/>
          <p:cNvPicPr/>
          <p:nvPr/>
        </p:nvPicPr>
        <p:blipFill>
          <a:blip r:embed="rId1"/>
          <a:stretch/>
        </p:blipFill>
        <p:spPr>
          <a:xfrm>
            <a:off x="689040" y="1616040"/>
            <a:ext cx="7772400" cy="1359000"/>
          </a:xfrm>
          <a:prstGeom prst="rect">
            <a:avLst/>
          </a:prstGeom>
          <a:ln w="0">
            <a:noFill/>
          </a:ln>
        </p:spPr>
      </p:pic>
      <p:sp>
        <p:nvSpPr>
          <p:cNvPr id="421" name="PlaceHolder 1"/>
          <p:cNvSpPr>
            <a:spLocks noGrp="1"/>
          </p:cNvSpPr>
          <p:nvPr>
            <p:ph type="subTitle"/>
          </p:nvPr>
        </p:nvSpPr>
        <p:spPr>
          <a:xfrm>
            <a:off x="3429000" y="2819160"/>
            <a:ext cx="5029200" cy="1143000"/>
          </a:xfrm>
          <a:prstGeom prst="rect">
            <a:avLst/>
          </a:prstGeom>
          <a:noFill/>
          <a:ln w="0">
            <a:noFill/>
          </a:ln>
        </p:spPr>
        <p:txBody>
          <a:bodyPr lIns="45720" rIns="45720" tIns="46800" bIns="46800" anchor="t">
            <a:noAutofit/>
          </a:bodyPr>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Eliminations</a:t>
            </a:r>
            <a:endParaRPr b="0" lang="en-US" sz="23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Improvements (No Facility Interaction)</a:t>
            </a:r>
            <a:endParaRPr b="0" lang="en-US" sz="2300" spc="-1" strike="noStrike">
              <a:solidFill>
                <a:srgbClr val="000000"/>
              </a:solidFill>
              <a:latin typeface="Lucida Sans Unicode"/>
            </a:endParaRPr>
          </a:p>
          <a:p>
            <a:pP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Times New Roman"/>
                <a:ea typeface="Times New Roman"/>
              </a:rPr>
              <a:t>New Data Requirements</a:t>
            </a:r>
            <a:endParaRPr b="0" lang="en-US" sz="2300" spc="-1" strike="noStrike">
              <a:solidFill>
                <a:srgbClr val="000000"/>
              </a:solidFill>
              <a:latin typeface="Lucida Sans Unicode"/>
            </a:endParaRPr>
          </a:p>
          <a:p>
            <a:pPr algn="r">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2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BF80-0367-4C03-85B2-7D3CD2B8F0B2}"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Refer to Page 1 of the 2010 AHCF Instructions.  List of what is new and instruction enhanceme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ELIMINATIONS:</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1” at the end of AHCF has been eliminated as it has no valid reference.</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xhibit I, Part B (Fee Schedules &amp; Other 3</a:t>
            </a:r>
            <a:r>
              <a:rPr b="0" lang="en-US" sz="2300" spc="-1" strike="noStrike" baseline="30000">
                <a:solidFill>
                  <a:srgbClr val="000000"/>
                </a:solidFill>
                <a:latin typeface="Times New Roman"/>
                <a:ea typeface="Times New Roman"/>
              </a:rPr>
              <a:t>rd</a:t>
            </a:r>
            <a:r>
              <a:rPr b="0" lang="en-US" sz="2300" spc="-1" strike="noStrike">
                <a:solidFill>
                  <a:srgbClr val="000000"/>
                </a:solidFill>
                <a:latin typeface="Times New Roman"/>
                <a:ea typeface="Times New Roman"/>
              </a:rPr>
              <a:t> Party Reimbursement):  This has been eliminated from the report.</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E839-57D8-4B09-967E-52237C31ACD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5"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IMPROVEMENTS (NO FACILITY INTERACTION):</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mproved instructions with enhanced definitions including when to report procedures or visits.</a:t>
            </a:r>
            <a:endParaRPr b="0" lang="en-US" sz="21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view the instructions for enhancements.</a:t>
            </a:r>
            <a:endParaRPr b="0" lang="en-US" sz="19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Medicaid’ header has been changed to display ‘Medicaid Fee-for-Service’.</a:t>
            </a:r>
            <a:endParaRPr b="0" lang="en-US" sz="21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Key lines 001 thru 004.  Software will sum line 100.</a:t>
            </a:r>
            <a:endParaRPr b="0" lang="en-US" sz="1900" spc="-1" strike="noStrike">
              <a:solidFill>
                <a:srgbClr val="000000"/>
              </a:solidFill>
              <a:latin typeface="Lucida Sans Unicode"/>
            </a:endParaRPr>
          </a:p>
          <a:p>
            <a:pPr lvl="2" marL="858960" indent="-228600">
              <a:lnSpc>
                <a:spcPct val="9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Moved the Total Line (960) to be before Ordered Ambulatory versus after it.  Ordered Ambulatory is not to be included in the Total and have moved the Total Line to accurately represent its value.</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2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E863-CFDB-4BA8-8E5F-B408174D62B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28" name="Title 3" descr=""/>
          <p:cNvPicPr/>
          <p:nvPr/>
        </p:nvPicPr>
        <p:blipFill>
          <a:blip r:embed="rId1"/>
          <a:stretch/>
        </p:blipFill>
        <p:spPr>
          <a:xfrm>
            <a:off x="390600" y="274680"/>
            <a:ext cx="8362800" cy="114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914040" y="1308240"/>
            <a:ext cx="7467480" cy="4711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enters for Medicare and Medicaid Services (CM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ata  Requirements &amp; Concern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o is required to File an AHCF Cost Report?  Is Certification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required?  Why is the AHCF Cost Report required?</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w to Access the Software on the Health Commerce System (HC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Beginning the Report:  Configuration Scree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at is New for 2010?</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tatistical Reporting Issu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ow to find NYS Rules and Regulation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What if a revised AHCF software is posted on the HCS?  What if the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facility already submitted the repor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nalizing the Report for Submissio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cility Data Analysis Repor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ontact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Questions and Answers</a:t>
            </a:r>
            <a:endParaRPr b="0" lang="en-US" sz="1900" spc="-1" strike="noStrike">
              <a:solidFill>
                <a:srgbClr val="000000"/>
              </a:solidFill>
              <a:latin typeface="Lucida Sans Unicode"/>
            </a:endParaRPr>
          </a:p>
        </p:txBody>
      </p:sp>
      <p:sp>
        <p:nvSpPr>
          <p:cNvPr id="37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3D67-AA52-474A-946B-1E02FE6569EC}"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75" name="Title 2" descr=""/>
          <p:cNvPicPr/>
          <p:nvPr/>
        </p:nvPicPr>
        <p:blipFill>
          <a:blip r:embed="rId1"/>
          <a:stretch/>
        </p:blipFill>
        <p:spPr>
          <a:xfrm>
            <a:off x="457200" y="457200"/>
            <a:ext cx="7772400" cy="11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MPROVEMENTS (NO FACILITY INTERACTION) cont’d:</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hibit III, Part A:  Added columns to display Net Costs (Total Costs less Adjustments).</a:t>
            </a:r>
            <a:endParaRPr b="0" lang="en-US" sz="18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vides a visual of Total Costs per category.  Software will subtract the Adjustments columns.</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ue to some facilities reporting multiple services, ‘summary screens’ have been developed that will show the summation of a facility’s services for Exhibit I, Part C (sections 1 thru 4), Exhibit I, Part D, and Exhibit IV, Part A.</a:t>
            </a:r>
            <a:endParaRPr b="0" lang="en-US" sz="18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ue to multiple types of services being reported on the AHCF, the Summary Screens provide an easier access to the data for the Department.  Software will provide the calculations.  </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only 1 service reported, summary screens will display the data for the 1 service.  If multiple services reported, summary screens will display the summation of the multiple services.</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ed a ‘Table of Contents’ to instructions (last page of instructions).</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3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4317-550E-495F-BBC5-FFEBC6B238AE}"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1" name="Title 3" descr=""/>
          <p:cNvPicPr/>
          <p:nvPr/>
        </p:nvPicPr>
        <p:blipFill>
          <a:blip r:embed="rId1"/>
          <a:stretch/>
        </p:blipFill>
        <p:spPr>
          <a:xfrm>
            <a:off x="396720" y="274680"/>
            <a:ext cx="835668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EW DATA REQUIREMENTS:</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C, Section 6:  Added a column for Locator Code address and separated FQHC and non-FQHC locations.</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 Part D:  Added lines for distributions received for Indigent Care (line 076) and United Cerebral Palsy (UCP) Distribution (Line 077).</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II, Part A:  Added 3 sections to capture the details of the adjustments that are included in the ‘Adjustments’ column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V, Parts B, C and D have been changed to collect data that coincides with the report period versus a 2 week period that includes October 1</a:t>
            </a:r>
            <a:r>
              <a:rPr b="0" lang="en-US" sz="2100" spc="-1" strike="noStrike" baseline="30000">
                <a:solidFill>
                  <a:srgbClr val="000000"/>
                </a:solidFill>
                <a:latin typeface="Times New Roman"/>
                <a:ea typeface="Times New Roman"/>
              </a:rPr>
              <a:t>st</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ids Adult Day Health Centers data should be reported under One-of-a-Kind.</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3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5DE0-F393-49BA-A612-397D6FFA656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4" name="Title 3" descr=""/>
          <p:cNvPicPr/>
          <p:nvPr/>
        </p:nvPicPr>
        <p:blipFill>
          <a:blip r:embed="rId1"/>
          <a:stretch/>
        </p:blipFill>
        <p:spPr>
          <a:xfrm>
            <a:off x="390600" y="274680"/>
            <a:ext cx="8362800" cy="114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523520"/>
            <a:ext cx="8229600" cy="4483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hibit I, Part C, Section 6:  Added a column for Locator Code address, and separated FQHC and non-FQHC location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viously Reported:</a:t>
            </a:r>
            <a:endParaRPr b="0" lang="en-US" sz="19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MIS Provider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ocator Code</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ported Locator Code as a 2 digit number</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or 2010:</a:t>
            </a:r>
            <a:endParaRPr b="0" lang="en-US" sz="19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MIS Provider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ddress of the Locato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ocator Code separated between Non-FQHC and FQHC approved locations</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port Locator Code as a 3 digit number</a:t>
            </a:r>
            <a:endParaRPr b="0" lang="en-US" sz="17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rovide HRSA approval documentation of an FQHC site</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py of Notice of Grant Award (NGA)</a:t>
            </a:r>
            <a:endParaRPr b="0" lang="en-US" sz="16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py of Electronic Handbook (EHB)</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3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B97E-CF70-4A32-89B5-A02A00955AB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37" name="Title 3" descr=""/>
          <p:cNvPicPr/>
          <p:nvPr/>
        </p:nvPicPr>
        <p:blipFill>
          <a:blip r:embed="rId1"/>
          <a:stretch/>
        </p:blipFill>
        <p:spPr>
          <a:xfrm>
            <a:off x="457200" y="122400"/>
            <a:ext cx="8229600" cy="16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hibit I, Part D:  Added lines for distributions received for Indigent Care (Line 076) and United Cerebral Palsy (UCP) Distribution (Line 077).</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reviously Reported:  </a:t>
            </a:r>
            <a:endParaRPr b="0" lang="en-US" sz="23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o discrete area to report so no consistency among providers.</a:t>
            </a:r>
            <a:endParaRPr b="0" lang="en-US" sz="21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2010:</a:t>
            </a:r>
            <a:endParaRPr b="0" lang="en-US" sz="23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Under header “Other Revenue from Distributions/Payments”, Additional lines created to report Indigent Care and UCP distributions.</a:t>
            </a:r>
            <a:endParaRPr b="0" lang="en-US" sz="21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E92A-B2B3-4F84-A694-5D75F2BCEFD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0"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xhibit III, Part A:  Added 3 sections to capture the details of the adjustments that are included in the ‘Adjustments’ colum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viously Reported:  </a:t>
            </a:r>
            <a:endParaRPr b="0" lang="en-US" sz="18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mp sum adjustment value was directly reported on the Expenditure Statement for Salary &amp; Wages, Purchased &amp; Contracted Services and Non-Salary Costs.</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2010:</a:t>
            </a:r>
            <a:endParaRPr b="0" lang="en-US" sz="18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Salary &amp; Wages on the Adjustment Screen for Salary &amp; Wage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Purchased &amp; Contracted  Services on the Adjustment Screen for Purchased &amp; Contracted Service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parately report the Adjustments for Non-Salary Costs on the Adjustment Screen for Non-Salary Costs.  The Total from this screen will be brought forward to the Expenditure Statement Screen by the software.</a:t>
            </a:r>
            <a:endParaRPr b="0" lang="en-US" sz="1600" spc="-1" strike="noStrike">
              <a:solidFill>
                <a:srgbClr val="000000"/>
              </a:solidFill>
              <a:latin typeface="Lucida Sans Unicode"/>
            </a:endParaRPr>
          </a:p>
          <a:p>
            <a:pPr lvl="2" marL="1087560" indent="-457200">
              <a:lnSpc>
                <a:spcPct val="8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f data is reported in the  “Misc” column on the Adjustment screen, on the notepad, give a description of the data.</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4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1AE0-0041-4540-A5AF-827D34A43F7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3"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Exhibit IV, Parts B, C and D have been changed to collect data that coincides with the Report Period versus a 2 week period that includes October 1</a:t>
            </a:r>
            <a:r>
              <a:rPr b="0" lang="en-US" sz="2700" spc="-1" strike="noStrike" baseline="30000">
                <a:solidFill>
                  <a:srgbClr val="000000"/>
                </a:solidFill>
                <a:latin typeface="Times New Roman"/>
                <a:ea typeface="Times New Roman"/>
              </a:rPr>
              <a:t>st</a:t>
            </a:r>
            <a:r>
              <a:rPr b="0" lang="en-US" sz="2700" spc="-1" strike="noStrike">
                <a:solidFill>
                  <a:srgbClr val="000000"/>
                </a:solidFill>
                <a:latin typeface="Times New Roman"/>
                <a:ea typeface="Times New Roman"/>
              </a:rPr>
              <a: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reviously Reported:  </a:t>
            </a:r>
            <a:endParaRPr b="0" lang="en-US" sz="2300" spc="-1" strike="noStrike">
              <a:solidFill>
                <a:srgbClr val="000000"/>
              </a:solidFill>
              <a:latin typeface="Lucida Sans Unicode"/>
            </a:endParaRPr>
          </a:p>
          <a:p>
            <a:pPr lvl="2" marL="1087560" indent="-457200">
              <a:lnSpc>
                <a:spcPct val="9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ta that coincided with a 2 week period that included </a:t>
            </a:r>
            <a:endParaRPr b="0" lang="en-US" sz="2100" spc="-1" strike="noStrike">
              <a:solidFill>
                <a:srgbClr val="000000"/>
              </a:solidFill>
              <a:latin typeface="Lucida Sans Unicode"/>
            </a:endParaRPr>
          </a:p>
          <a:p>
            <a:pPr lvl="2" marL="1087560" indent="-4572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October 1</a:t>
            </a:r>
            <a:r>
              <a:rPr b="0" lang="en-US" sz="2100" spc="-1" strike="noStrike" baseline="30000">
                <a:solidFill>
                  <a:srgbClr val="000000"/>
                </a:solidFill>
                <a:latin typeface="Times New Roman"/>
                <a:ea typeface="Times New Roman"/>
              </a:rPr>
              <a:t>st</a:t>
            </a:r>
            <a:r>
              <a:rPr b="0" lang="en-US" sz="2100" spc="-1" strike="noStrike">
                <a:solidFill>
                  <a:srgbClr val="000000"/>
                </a:solidFill>
                <a:latin typeface="Times New Roman"/>
                <a:ea typeface="Times New Roman"/>
              </a:rPr>
              <a:t>.</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For 2010:</a:t>
            </a:r>
            <a:endParaRPr b="0" lang="en-US" sz="2300" spc="-1" strike="noStrike">
              <a:solidFill>
                <a:srgbClr val="000000"/>
              </a:solidFill>
              <a:latin typeface="Lucida Sans Unicode"/>
            </a:endParaRPr>
          </a:p>
          <a:p>
            <a:pPr lvl="2" marL="1087560" indent="-457200">
              <a:lnSpc>
                <a:spcPct val="9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ta that coincides with the Report Period:</a:t>
            </a:r>
            <a:endParaRPr b="0" lang="en-US" sz="2100" spc="-1" strike="noStrike">
              <a:solidFill>
                <a:srgbClr val="000000"/>
              </a:solidFill>
              <a:latin typeface="Lucida Sans Unicode"/>
            </a:endParaRPr>
          </a:p>
          <a:p>
            <a:pPr lvl="3" marL="1143000" indent="-228600">
              <a:lnSpc>
                <a:spcPct val="9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anuary 1 thru December 31</a:t>
            </a:r>
            <a:r>
              <a:rPr b="0" lang="en-US" sz="1900" spc="-1" strike="noStrike" baseline="30000">
                <a:solidFill>
                  <a:srgbClr val="000000"/>
                </a:solidFill>
                <a:latin typeface="Times New Roman"/>
                <a:ea typeface="Times New Roman"/>
              </a:rPr>
              <a:t>st</a:t>
            </a:r>
            <a:endParaRPr b="0" lang="en-US" sz="1900" spc="-1" strike="noStrike">
              <a:solidFill>
                <a:srgbClr val="000000"/>
              </a:solidFill>
              <a:latin typeface="Lucida Sans Unicode"/>
            </a:endParaRPr>
          </a:p>
          <a:p>
            <a:pPr lvl="3" marL="1143000" indent="-228600">
              <a:lnSpc>
                <a:spcPct val="9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July 1 thru June 30</a:t>
            </a:r>
            <a:r>
              <a:rPr b="0" lang="en-US" sz="1900" spc="-1" strike="noStrike" baseline="30000">
                <a:solidFill>
                  <a:srgbClr val="000000"/>
                </a:solidFill>
                <a:latin typeface="Times New Roman"/>
                <a:ea typeface="Times New Roman"/>
              </a:rPr>
              <a:t>th</a:t>
            </a:r>
            <a:endParaRPr b="0" lang="en-US" sz="19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7A61-2301-4655-BF94-9606CCC1046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6"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ids Adult Day Health Centers data should be reported under One-of-a-Kind.</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viously Reported:  </a:t>
            </a:r>
            <a:endParaRPr b="0" lang="en-US" sz="24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porting was not consistent among providers.</a:t>
            </a:r>
            <a:endParaRPr b="0" lang="en-US" sz="22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nSpc>
                <a:spcPct val="10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2010:</a:t>
            </a:r>
            <a:endParaRPr b="0" lang="en-US" sz="2400" spc="-1" strike="noStrike">
              <a:solidFill>
                <a:srgbClr val="000000"/>
              </a:solidFill>
              <a:latin typeface="Lucida Sans Unicode"/>
            </a:endParaRPr>
          </a:p>
          <a:p>
            <a:pPr lvl="2" marL="1087560" indent="-457200">
              <a:lnSpc>
                <a:spcPct val="100000"/>
              </a:lnSpc>
              <a:spcBef>
                <a:spcPts val="349"/>
              </a:spcBef>
              <a:buClr>
                <a:srgbClr val="000000"/>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n selecting services on the configuration screen, </a:t>
            </a:r>
            <a:endParaRPr b="0" lang="en-US" sz="2200" spc="-1" strike="noStrike">
              <a:solidFill>
                <a:srgbClr val="000000"/>
              </a:solidFill>
              <a:latin typeface="Lucida Sans Unicode"/>
            </a:endParaRPr>
          </a:p>
          <a:p>
            <a:pPr lvl="2" marL="108756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One-of-a-Kind should be selected to report Aids Adult </a:t>
            </a:r>
            <a:endParaRPr b="0" lang="en-US" sz="2200" spc="-1" strike="noStrike">
              <a:solidFill>
                <a:srgbClr val="000000"/>
              </a:solidFill>
              <a:latin typeface="Lucida Sans Unicode"/>
            </a:endParaRPr>
          </a:p>
          <a:p>
            <a:pPr lvl="2" marL="108756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ay Health Center data.</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48"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6E80-0312-4B14-8075-BD33A381662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49"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4" descr=""/>
          <p:cNvPicPr/>
          <p:nvPr/>
        </p:nvPicPr>
        <p:blipFill>
          <a:blip r:embed="rId1"/>
          <a:stretch/>
        </p:blipFill>
        <p:spPr>
          <a:xfrm>
            <a:off x="689040" y="1695600"/>
            <a:ext cx="8083440" cy="1358640"/>
          </a:xfrm>
          <a:prstGeom prst="rect">
            <a:avLst/>
          </a:prstGeom>
          <a:ln w="0">
            <a:noFill/>
          </a:ln>
        </p:spPr>
      </p:pic>
      <p:sp>
        <p:nvSpPr>
          <p:cNvPr id="451" name="PlaceHolder 1"/>
          <p:cNvSpPr>
            <a:spLocks noGrp="1"/>
          </p:cNvSpPr>
          <p:nvPr>
            <p:ph type="subTitle"/>
          </p:nvPr>
        </p:nvSpPr>
        <p:spPr>
          <a:xfrm>
            <a:off x="685800" y="2971440"/>
            <a:ext cx="7772400" cy="762120"/>
          </a:xfrm>
          <a:prstGeom prst="rect">
            <a:avLst/>
          </a:prstGeom>
          <a:noFill/>
          <a:ln w="0">
            <a:noFill/>
          </a:ln>
        </p:spPr>
        <p:txBody>
          <a:bodyPr lIns="45720" rIns="45720" tIns="46800" bIns="46800" anchor="t">
            <a:noAutofit/>
          </a:bodyPr>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How to report Visits or Procedures</a:t>
            </a:r>
            <a:endParaRPr b="0" lang="en-US" sz="2500" spc="-1" strike="noStrike">
              <a:solidFill>
                <a:srgbClr val="000000"/>
              </a:solidFill>
              <a:latin typeface="Lucida Sans Unicode"/>
            </a:endParaRPr>
          </a:p>
        </p:txBody>
      </p:sp>
      <p:sp>
        <p:nvSpPr>
          <p:cNvPr id="45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F083-5CFC-4B7D-BB41-DD71D52F8A4F}"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mbulatory Surgery Centers and facilities that bill for Abortion and Dialysis services should report using the “Total Procedures” column on Exhibit I, Part D.</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MTP facilities should report </a:t>
            </a:r>
            <a:r>
              <a:rPr b="0" i="1" lang="en-US" sz="2600" spc="-1" strike="noStrike" u="sng">
                <a:solidFill>
                  <a:srgbClr val="000000"/>
                </a:solidFill>
                <a:uFillTx/>
                <a:latin typeface="Times New Roman"/>
                <a:ea typeface="Times New Roman"/>
              </a:rPr>
              <a:t>weekly visits </a:t>
            </a:r>
            <a:r>
              <a:rPr b="0" lang="en-US" sz="2600" spc="-1" strike="noStrike">
                <a:solidFill>
                  <a:srgbClr val="000000"/>
                </a:solidFill>
                <a:latin typeface="Times New Roman"/>
                <a:ea typeface="Times New Roman"/>
              </a:rPr>
              <a:t>under the “Total Visits” column on Exhibit I, Part D.</a:t>
            </a:r>
            <a:endParaRPr b="0" lang="en-US" sz="26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f </a:t>
            </a:r>
            <a:r>
              <a:rPr b="0" i="1" lang="en-US" sz="2500" spc="-1" strike="noStrike">
                <a:solidFill>
                  <a:srgbClr val="000000"/>
                </a:solidFill>
                <a:latin typeface="Times New Roman"/>
                <a:ea typeface="Times New Roman"/>
              </a:rPr>
              <a:t>Procedures</a:t>
            </a:r>
            <a:r>
              <a:rPr b="0" lang="en-US" sz="2500" spc="-1" strike="noStrike">
                <a:solidFill>
                  <a:srgbClr val="000000"/>
                </a:solidFill>
                <a:latin typeface="Times New Roman"/>
                <a:ea typeface="Times New Roman"/>
              </a:rPr>
              <a:t> are reported, do not report </a:t>
            </a:r>
            <a:r>
              <a:rPr b="0" i="1" lang="en-US" sz="2500" spc="-1" strike="noStrike">
                <a:solidFill>
                  <a:srgbClr val="000000"/>
                </a:solidFill>
                <a:latin typeface="Times New Roman"/>
                <a:ea typeface="Times New Roman"/>
              </a:rPr>
              <a:t>Visits</a:t>
            </a:r>
            <a:r>
              <a:rPr b="0" lang="en-US" sz="2500" spc="-1" strike="noStrike">
                <a:solidFill>
                  <a:srgbClr val="000000"/>
                </a:solidFill>
                <a:latin typeface="Times New Roman"/>
                <a:ea typeface="Times New Roman"/>
              </a:rPr>
              <a:t>.</a:t>
            </a: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f </a:t>
            </a:r>
            <a:r>
              <a:rPr b="0" i="1" lang="en-US" sz="2600" spc="-1" strike="noStrike">
                <a:solidFill>
                  <a:srgbClr val="000000"/>
                </a:solidFill>
                <a:latin typeface="Times New Roman"/>
                <a:ea typeface="Times New Roman"/>
              </a:rPr>
              <a:t>Visits</a:t>
            </a:r>
            <a:r>
              <a:rPr b="0" lang="en-US" sz="2600" spc="-1" strike="noStrike">
                <a:solidFill>
                  <a:srgbClr val="000000"/>
                </a:solidFill>
                <a:latin typeface="Times New Roman"/>
                <a:ea typeface="Times New Roman"/>
              </a:rPr>
              <a:t> are reported, do not report </a:t>
            </a:r>
            <a:r>
              <a:rPr b="0" i="1" lang="en-US" sz="2600" spc="-1" strike="noStrike">
                <a:solidFill>
                  <a:srgbClr val="000000"/>
                </a:solidFill>
                <a:latin typeface="Times New Roman"/>
                <a:ea typeface="Times New Roman"/>
              </a:rPr>
              <a:t>Procedures</a:t>
            </a:r>
            <a:r>
              <a:rPr b="0" lang="en-US" sz="2600" spc="-1" strike="noStrike">
                <a:solidFill>
                  <a:srgbClr val="000000"/>
                </a:solidFill>
                <a:latin typeface="Times New Roman"/>
                <a:ea typeface="Times New Roman"/>
              </a:rPr>
              <a:t>.</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
        <p:nvSpPr>
          <p:cNvPr id="45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97E9-0D85-4AAA-921A-F853D6DC3E9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CAP, HIV and PAC visits (Exhibit I, Part D):</a:t>
            </a:r>
            <a:r>
              <a:rPr b="1" lang="en-US" sz="2600" spc="-1" strike="noStrike">
                <a:solidFill>
                  <a:srgbClr val="000000"/>
                </a:solidFill>
                <a:latin typeface="Times New Roman"/>
                <a:ea typeface="Times New Roman"/>
              </a:rPr>
              <a:t> </a:t>
            </a:r>
            <a:endParaRPr b="0" lang="en-US" sz="26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Article 28 non-FQHC providers and those Article 28 FQHC providers who have “Opted In” to receive payment using the Ambulatory Patient Group (APG) method (Chapter 484 of the Laws of 2009 amended the Public Health and social services Law), these rates have been subsumed by APG rates and providers should include visits for these claims as “Regular Clinic” visits.</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228600">
              <a:lnSpc>
                <a:spcPct val="9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Article 28 FQHC providers who have “Opted Out” of APGs and receive payments using their FQHC rate, these facilities should report these visits separately.</a:t>
            </a:r>
            <a:endParaRPr b="0" lang="en-US" sz="2200" spc="-1" strike="noStrike">
              <a:solidFill>
                <a:srgbClr val="000000"/>
              </a:solidFill>
              <a:latin typeface="Lucida Sans Unicode"/>
            </a:endParaRPr>
          </a:p>
        </p:txBody>
      </p:sp>
      <p:sp>
        <p:nvSpPr>
          <p:cNvPr id="45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C93E-071C-4640-BC13-605B8B989FB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5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3" descr=""/>
          <p:cNvPicPr/>
          <p:nvPr/>
        </p:nvPicPr>
        <p:blipFill>
          <a:blip r:embed="rId1"/>
          <a:stretch/>
        </p:blipFill>
        <p:spPr>
          <a:xfrm>
            <a:off x="469800" y="1384200"/>
            <a:ext cx="8210520" cy="2486160"/>
          </a:xfrm>
          <a:prstGeom prst="rect">
            <a:avLst/>
          </a:prstGeom>
          <a:ln w="0">
            <a:noFill/>
          </a:ln>
        </p:spPr>
      </p:pic>
      <p:sp>
        <p:nvSpPr>
          <p:cNvPr id="37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47A4-6DE2-4E32-BD9F-C4FFA0BF6E9A}"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4" descr=""/>
          <p:cNvPicPr/>
          <p:nvPr/>
        </p:nvPicPr>
        <p:blipFill>
          <a:blip r:embed="rId1"/>
          <a:stretch/>
        </p:blipFill>
        <p:spPr>
          <a:xfrm>
            <a:off x="549360" y="1371600"/>
            <a:ext cx="8173800" cy="2554200"/>
          </a:xfrm>
          <a:prstGeom prst="rect">
            <a:avLst/>
          </a:prstGeom>
          <a:ln w="0">
            <a:noFill/>
          </a:ln>
        </p:spPr>
      </p:pic>
      <p:sp>
        <p:nvSpPr>
          <p:cNvPr id="46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B655-86CB-44AE-818D-65AE65AF8EB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Go to:  </a:t>
            </a:r>
            <a:r>
              <a:rPr b="0" lang="en-US" sz="2100" spc="-1" strike="noStrike" u="sng">
                <a:solidFill>
                  <a:srgbClr val="ff8119"/>
                </a:solidFill>
                <a:uFillTx/>
                <a:latin typeface="Times New Roman"/>
                <a:ea typeface="Times New Roman"/>
                <a:hlinkClick r:id="rId1"/>
              </a:rPr>
              <a:t>http://www.health.ny.gov/</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 the right hand side of the screen under “Site Contents”, click on ‘Laws &amp; Regulati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op of List under “Rules and Regulations”, click on ‘Title 10 (Health)’</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ick on “Search Title 10”</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ype in Search Box:  86-4</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lick on the “Search” button</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6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FFB1-F38F-42E5-B370-1D649907F10B}"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3" name="Title 3" descr=""/>
          <p:cNvPicPr/>
          <p:nvPr/>
        </p:nvPicPr>
        <p:blipFill>
          <a:blip r:embed="rId2"/>
          <a:stretch/>
        </p:blipFill>
        <p:spPr>
          <a:xfrm>
            <a:off x="457200" y="536400"/>
            <a:ext cx="8259840" cy="134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4" descr=""/>
          <p:cNvPicPr/>
          <p:nvPr/>
        </p:nvPicPr>
        <p:blipFill>
          <a:blip r:embed="rId1"/>
          <a:stretch/>
        </p:blipFill>
        <p:spPr>
          <a:xfrm>
            <a:off x="480960" y="841320"/>
            <a:ext cx="8175600" cy="4108680"/>
          </a:xfrm>
          <a:prstGeom prst="rect">
            <a:avLst/>
          </a:prstGeom>
          <a:ln w="0">
            <a:noFill/>
          </a:ln>
        </p:spPr>
      </p:pic>
      <p:sp>
        <p:nvSpPr>
          <p:cNvPr id="46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10A7-0EE5-4DB1-A77D-CD80525E92A1}"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n email will be sent to all individuals that have access to the “DTC Cost Report” application on the HCS advising of the new software posted and the purpose of the revis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Save your file first (will have a .doh extension)</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Install the software </a:t>
            </a:r>
            <a:r>
              <a:rPr b="1" i="1" lang="en-US" sz="2500" spc="-1" strike="noStrike">
                <a:solidFill>
                  <a:srgbClr val="000000"/>
                </a:solidFill>
                <a:latin typeface="Times New Roman"/>
                <a:ea typeface="Times New Roman"/>
              </a:rPr>
              <a:t>IN THE SAME DIRECTORY </a:t>
            </a:r>
            <a:r>
              <a:rPr b="0" lang="en-US" sz="2500" spc="-1" strike="noStrike">
                <a:solidFill>
                  <a:srgbClr val="000000"/>
                </a:solidFill>
                <a:latin typeface="Times New Roman"/>
                <a:ea typeface="Times New Roman"/>
              </a:rPr>
              <a:t>that you have currently been working by downloading from the HCS as previously done.</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Reopen your file in the new downloaded software.</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 log will be kept and posted on the HCS with the date of the software revision and purpos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6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D2E1-41D8-4A6F-BEE8-7B43BDDCC3C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68" name="Title 3" descr=""/>
          <p:cNvPicPr/>
          <p:nvPr/>
        </p:nvPicPr>
        <p:blipFill>
          <a:blip r:embed="rId1"/>
          <a:stretch/>
        </p:blipFill>
        <p:spPr>
          <a:xfrm>
            <a:off x="457200" y="420840"/>
            <a:ext cx="8229600" cy="1536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457200" y="2057040"/>
            <a:ext cx="8229600" cy="394956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nstructions will be given in the email regarding the purpose of the change and the responsibilities of the facility for resubmitting.</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9FB2-A70B-446A-ADB9-85F789C73BB7}"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1" name="Title 3" descr=""/>
          <p:cNvPicPr/>
          <p:nvPr/>
        </p:nvPicPr>
        <p:blipFill>
          <a:blip r:embed="rId1"/>
          <a:stretch/>
        </p:blipFill>
        <p:spPr>
          <a:xfrm>
            <a:off x="341280" y="950760"/>
            <a:ext cx="8583480" cy="158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3" descr=""/>
          <p:cNvPicPr/>
          <p:nvPr/>
        </p:nvPicPr>
        <p:blipFill>
          <a:blip r:embed="rId1"/>
          <a:stretch/>
        </p:blipFill>
        <p:spPr>
          <a:xfrm>
            <a:off x="689040" y="1036800"/>
            <a:ext cx="7772400" cy="2090520"/>
          </a:xfrm>
          <a:prstGeom prst="rect">
            <a:avLst/>
          </a:prstGeom>
          <a:ln w="0">
            <a:noFill/>
          </a:ln>
        </p:spPr>
      </p:pic>
      <p:sp>
        <p:nvSpPr>
          <p:cNvPr id="473" name="PlaceHolder 1"/>
          <p:cNvSpPr>
            <a:spLocks noGrp="1"/>
          </p:cNvSpPr>
          <p:nvPr>
            <p:ph type="subTitle"/>
          </p:nvPr>
        </p:nvSpPr>
        <p:spPr>
          <a:xfrm>
            <a:off x="4114440" y="3123720"/>
            <a:ext cx="4267080" cy="1143000"/>
          </a:xfrm>
          <a:prstGeom prst="rect">
            <a:avLst/>
          </a:prstGeom>
          <a:noFill/>
          <a:ln w="0">
            <a:noFill/>
          </a:ln>
        </p:spPr>
        <p:txBody>
          <a:bodyPr lIns="45720" rIns="45720" tIns="46800" bIns="46800" anchor="t">
            <a:noAutofit/>
          </a:bodyPr>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Uploading an AHCF Cost Report</a:t>
            </a:r>
            <a:endParaRPr b="0" lang="en-US" sz="2100" spc="-1" strike="noStrike">
              <a:solidFill>
                <a:srgbClr val="000000"/>
              </a:solidFill>
              <a:latin typeface="Lucida Sans Unicode"/>
            </a:endParaRPr>
          </a:p>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Filing Certifications and Audited</a:t>
            </a:r>
            <a:endParaRPr b="0" lang="en-US" sz="21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46"/>
                </a:solidFill>
                <a:latin typeface="Times New Roman"/>
                <a:ea typeface="Times New Roman"/>
              </a:rPr>
              <a:t>   </a:t>
            </a:r>
            <a:r>
              <a:rPr b="0" lang="en-US" sz="2100" spc="-1" strike="noStrike">
                <a:solidFill>
                  <a:srgbClr val="464646"/>
                </a:solidFill>
                <a:latin typeface="Times New Roman"/>
                <a:ea typeface="Times New Roman"/>
              </a:rPr>
              <a:t>Financial Statements (F/S)</a:t>
            </a:r>
            <a:endParaRPr b="0" lang="en-US" sz="2100" spc="-1" strike="noStrike">
              <a:solidFill>
                <a:srgbClr val="000000"/>
              </a:solidFill>
              <a:latin typeface="Lucida Sans Unicode"/>
            </a:endParaRPr>
          </a:p>
          <a:p>
            <a:pPr algn="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7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FEF2-EF2E-416A-BA29-274D68698D48}"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inalizing the AHCF Cost Report</a:t>
            </a:r>
            <a:endParaRPr b="0" lang="en-US" sz="19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ce the AHCF cost report is completed, click “Action” in the top menu bar and click “Finalize”, then DCN# will be automatically created.</a:t>
            </a:r>
            <a:endParaRPr b="0" lang="en-US" sz="16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ve the Cost Report in your computer.</a:t>
            </a:r>
            <a:endParaRPr b="0" lang="en-US" sz="1600" spc="-1" strike="noStrike">
              <a:solidFill>
                <a:srgbClr val="000000"/>
              </a:solidFill>
              <a:latin typeface="Lucida Sans Unicode"/>
            </a:endParaRPr>
          </a:p>
          <a:p>
            <a:pPr lvl="1" marL="620640" indent="-228600">
              <a:lnSpc>
                <a:spcPct val="80000"/>
              </a:lnSpc>
              <a:spcBef>
                <a:spcPts val="326"/>
              </a:spcBef>
              <a:buClr>
                <a:srgbClr val="1fae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 to HCS website </a:t>
            </a:r>
            <a:r>
              <a:rPr b="0" i="1" lang="en-US" sz="1600" spc="-1" strike="noStrike">
                <a:solidFill>
                  <a:srgbClr val="000000"/>
                </a:solidFill>
                <a:latin typeface="Times New Roman"/>
                <a:ea typeface="Times New Roman"/>
              </a:rPr>
              <a:t>(</a:t>
            </a:r>
            <a:r>
              <a:rPr b="0" lang="en-US" sz="1600" spc="-1" strike="noStrike" u="sng">
                <a:solidFill>
                  <a:srgbClr val="ff8119"/>
                </a:solidFill>
                <a:uFillTx/>
                <a:latin typeface="Times New Roman"/>
                <a:ea typeface="Times New Roman"/>
                <a:hlinkClick r:id="rId1"/>
              </a:rPr>
              <a:t>https://commerce.health.state.ny.us/hcsportal</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d upload the Cost Report.</a:t>
            </a:r>
            <a:endParaRPr b="0" lang="en-US" sz="1600" spc="-1" strike="noStrike">
              <a:solidFill>
                <a:srgbClr val="000000"/>
              </a:solidFill>
              <a:latin typeface="Lucida Sans Unicode"/>
            </a:endParaRPr>
          </a:p>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1faec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ploading the AHCF Cost Report</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gon to the HP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D&amp;TC Cost Report” applicatio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Finalized AHCF1 file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Facility Name for which you are submitting data. (Applies only to individuals who are authorized to submit data for more than one facilit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BROWSE button to select the file you intend to upload. </a:t>
            </a:r>
            <a:endParaRPr b="0" lang="en-US" sz="1600" spc="-1" strike="noStrike">
              <a:solidFill>
                <a:srgbClr val="000000"/>
              </a:solidFill>
              <a:latin typeface="Lucida Sans Unicode"/>
            </a:endParaRPr>
          </a:p>
          <a:p>
            <a:pPr lvl="2" marL="858960" indent="-228600">
              <a:lnSpc>
                <a:spcPct val="80000"/>
              </a:lnSpc>
              <a:spcBef>
                <a:spcPts val="349"/>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ea typeface="Times New Roman"/>
              </a:rPr>
              <a:t>Important: To see your file </a:t>
            </a:r>
            <a:r>
              <a:rPr b="0" lang="en-US" sz="1500" spc="-1" strike="noStrike">
                <a:solidFill>
                  <a:srgbClr val="000000"/>
                </a:solidFill>
                <a:latin typeface="Times New Roman"/>
                <a:ea typeface="Times New Roman"/>
              </a:rPr>
              <a:t>in the Browse window you may need to change the “Files of Type” to “All Files (*.*)”.</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your </a:t>
            </a:r>
            <a:r>
              <a:rPr b="1" lang="en-US" sz="1600" spc="-1" strike="noStrike">
                <a:solidFill>
                  <a:srgbClr val="000000"/>
                </a:solidFill>
                <a:latin typeface="Times New Roman"/>
                <a:ea typeface="Times New Roman"/>
              </a:rPr>
              <a:t>“doh file” (i.e. some_ahcf1_2010.doh).</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UPLOAD button.</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47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1A3E-5F72-4752-B270-30F573B4F88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77" name="Title 3" descr=""/>
          <p:cNvPicPr/>
          <p:nvPr/>
        </p:nvPicPr>
        <p:blipFill>
          <a:blip r:embed="rId2"/>
          <a:stretch/>
        </p:blipFill>
        <p:spPr>
          <a:xfrm>
            <a:off x="457200" y="274680"/>
            <a:ext cx="8290080" cy="124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7200" y="1676160"/>
            <a:ext cx="8229600" cy="46479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at should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O Certificat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PA Certificat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ed F/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for 2010:  If FQHC Designated Location – A copy of the Notice of Grant Award (NGA) or the Electronic Handbook (EHB).</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O and CPA certifications are the first pages of AHCF Cost Report.  Providers must print out these certification pages and complete the document.  Alternative certification forms will not be accepted by NYS DOH.</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unty DOH Facilities whose total operating costs are less than $100,000 are not required to submit the CPA Certification (</a:t>
            </a:r>
            <a:r>
              <a:rPr b="0" lang="en-US" sz="1900" spc="-1" strike="noStrike">
                <a:solidFill>
                  <a:srgbClr val="000000"/>
                </a:solidFill>
                <a:latin typeface="Times New Roman"/>
                <a:ea typeface="Times New Roman"/>
              </a:rPr>
              <a:t>Part 86-4.4 (b)), but still required to file CEO certification and Audited F/S.</a:t>
            </a:r>
            <a:endParaRPr b="0" lang="en-US" sz="19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For the 2009 AHCF Cost Report, BPACR mailed 132 letters for non-compliance.</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B01A-0BF0-48E3-8ECB-CF2B4D0E56C8}"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0" name="Title 3" descr=""/>
          <p:cNvPicPr/>
          <p:nvPr/>
        </p:nvPicPr>
        <p:blipFill>
          <a:blip r:embed="rId1"/>
          <a:stretch/>
        </p:blipFill>
        <p:spPr>
          <a:xfrm>
            <a:off x="457200" y="268200"/>
            <a:ext cx="8229600" cy="1621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7200" y="1752120"/>
            <a:ext cx="8229600" cy="44197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en should they be submitted? </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ertifications and Audited F/S should be filed within 5 business days following the electronic submission of AHCF Cost Report.</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How should they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rtifications and Audited F/S should be submitted hardcopy by mail.</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ectronic submission (i.e. email or fax) will not be accepted because original signed certifications are required.</a:t>
            </a:r>
            <a:endParaRPr b="0" lang="en-US" sz="18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ere should they be submitted?</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dress to:</a:t>
            </a:r>
            <a:endParaRPr b="0" lang="en-US" sz="18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r. John W. Gahan, Jr.</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ureau of Primary &amp; Acute Care Reimbursement</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orning Tower Building, Room 1043</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pire State Plaza</a:t>
            </a:r>
            <a:endParaRPr b="0" lang="en-US" sz="16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lbany, NY 12237</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482"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5794-16DB-4759-8DB1-12D6DC11FF6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3" name="Title 3" descr=""/>
          <p:cNvPicPr/>
          <p:nvPr/>
        </p:nvPicPr>
        <p:blipFill>
          <a:blip r:embed="rId1"/>
          <a:stretch/>
        </p:blipFill>
        <p:spPr>
          <a:xfrm>
            <a:off x="457200" y="304920"/>
            <a:ext cx="8229600" cy="1579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3" descr=""/>
          <p:cNvPicPr/>
          <p:nvPr/>
        </p:nvPicPr>
        <p:blipFill>
          <a:blip r:embed="rId1"/>
          <a:stretch/>
        </p:blipFill>
        <p:spPr>
          <a:xfrm>
            <a:off x="689040" y="1755720"/>
            <a:ext cx="8047080" cy="1828800"/>
          </a:xfrm>
          <a:prstGeom prst="rect">
            <a:avLst/>
          </a:prstGeom>
          <a:ln w="0">
            <a:noFill/>
          </a:ln>
        </p:spPr>
      </p:pic>
      <p:sp>
        <p:nvSpPr>
          <p:cNvPr id="4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7FBA-FA81-4ADB-A86F-70B6FC18346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etter sent out on December 30, 2009 from John Ulberg, Director, Division of Health Care Financing, informing facilities of the data integrity requirements with the report submissions due to CMS concern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n May 2010 New York State completed the Upper Payment Limit (UPL) demonstration for Freestanding Clinics based on calendar year 2006 data which was used for the 2009, 2010 and 2011 UPL calculation.  During the process of analyzing the data concerns arose about the accuracy of cost report and claims data that had been submitted by providers.  </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Centers for Medicare and Medicaid Services (CMS) and the State agreed that the State would develop an action plan for improving the accuracy of the data going forward.  It was agreed that a progress report would be submitted to CMS, using 2009 data, which documents the effort and results that have been made in improving the integrity of the cost reporting process.  This report was submitted on August 2, 2011.</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next UPL calculation is required to use 2010 data for 2012.</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37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8562-DCE3-4082-BBE3-DDEEDC60F264}"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0" name="Title 2"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ing a Facility Data Analysis Report that will provide facilities with information regarding their cost report. </a:t>
            </a:r>
            <a:endParaRPr b="0" lang="en-US" sz="24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Goal: To supply this report annually which facilities can use to review their cost report data they submitted to assist in determining if the data in the report accurately reflects their facility.</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included in Analysis report:</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of Visits/Procedures by Payer Sourc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riance of Medicaid Fee-for-Service AHCF reported visits from paid claims data reported on eMedNY.</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mary of Revenue and Costs &amp; FTE data reported.</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lance Sheet information and Financial Ratios. </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e to be provided to facilities to be determined.</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2010 AHCF taking precedence over the completion of this projec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487"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B059-7D30-4782-8354-93C18A46F5C0}"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88" name="Title 3" descr=""/>
          <p:cNvPicPr/>
          <p:nvPr/>
        </p:nvPicPr>
        <p:blipFill>
          <a:blip r:embed="rId1"/>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Title 5" descr=""/>
          <p:cNvPicPr/>
          <p:nvPr/>
        </p:nvPicPr>
        <p:blipFill>
          <a:blip r:embed="rId1"/>
          <a:stretch/>
        </p:blipFill>
        <p:spPr>
          <a:xfrm>
            <a:off x="689040" y="1755720"/>
            <a:ext cx="7772400" cy="1627200"/>
          </a:xfrm>
          <a:prstGeom prst="rect">
            <a:avLst/>
          </a:prstGeom>
          <a:ln w="0">
            <a:noFill/>
          </a:ln>
        </p:spPr>
      </p:pic>
      <p:sp>
        <p:nvSpPr>
          <p:cNvPr id="490" name="PlaceHolder 1"/>
          <p:cNvSpPr>
            <a:spLocks noGrp="1"/>
          </p:cNvSpPr>
          <p:nvPr>
            <p:ph type="subTitle"/>
          </p:nvPr>
        </p:nvSpPr>
        <p:spPr>
          <a:xfrm>
            <a:off x="3276360" y="3611520"/>
            <a:ext cx="5181480" cy="1200240"/>
          </a:xfrm>
          <a:prstGeom prst="rect">
            <a:avLst/>
          </a:prstGeom>
          <a:noFill/>
          <a:ln w="0">
            <a:noFill/>
          </a:ln>
        </p:spPr>
        <p:txBody>
          <a:bodyPr lIns="45720" rIns="45720" tIns="46800" bIns="46800" anchor="t">
            <a:noAutofit/>
          </a:bodyPr>
          <a:p>
            <a:pP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Cost Report and HCS</a:t>
            </a:r>
            <a:endParaRPr b="0" lang="en-US" sz="2500" spc="-1" strike="noStrike">
              <a:solidFill>
                <a:srgbClr val="000000"/>
              </a:solidFill>
              <a:latin typeface="Lucida Sans Unicode"/>
            </a:endParaRPr>
          </a:p>
          <a:p>
            <a:pPr>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Times New Roman"/>
                <a:ea typeface="Times New Roman"/>
              </a:rPr>
              <a:t>Other Contacts for General Reference</a:t>
            </a:r>
            <a:endParaRPr b="0" lang="en-US" sz="2500" spc="-1" strike="noStrike">
              <a:solidFill>
                <a:srgbClr val="000000"/>
              </a:solidFill>
              <a:latin typeface="Lucida Sans Unicode"/>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670F-D23A-4102-8ED6-6C9958BD338D}"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ions regarding completing the re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ll the Bureau of Primary and Acute Care Reimbursement (BPACR) at 518-474-3020 and, based on the topic of your question, your phone call will be directed to the appropriate staff.</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ail questions or to report problems with the software to:  </a:t>
            </a:r>
            <a:r>
              <a:rPr b="0" lang="en-US" sz="2000" spc="-1" strike="noStrike" u="sng">
                <a:solidFill>
                  <a:srgbClr val="ff8119"/>
                </a:solidFill>
                <a:uFillTx/>
                <a:latin typeface="Times New Roman"/>
                <a:ea typeface="Times New Roman"/>
                <a:hlinkClick r:id="rId1"/>
              </a:rPr>
              <a:t>dtcatdoh@health.state.ny.us</a:t>
            </a:r>
            <a:r>
              <a:rPr b="0" lang="en-US" sz="2000" spc="-1" strike="noStrike">
                <a:solidFill>
                  <a:srgbClr val="000000"/>
                </a:solidFill>
                <a:latin typeface="Times New Roman"/>
                <a:ea typeface="Times New Roman"/>
              </a:rPr>
              <a:t>   Identify yourself in the email including the name of your facility, operating certificate number and telephone number.</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uld you experience any problems with the electronic submission, a toll-free helpline is available at 1-866-529-1890.</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CS Accounts:  Refer to the PowerPoint screen “How to obtain an HCS Account”.</a:t>
            </a:r>
            <a:endParaRPr b="0" lang="en-US" sz="2400" spc="-1" strike="noStrike">
              <a:solidFill>
                <a:srgbClr val="000000"/>
              </a:solidFill>
              <a:latin typeface="Lucida Sans Unicode"/>
            </a:endParaRPr>
          </a:p>
        </p:txBody>
      </p:sp>
      <p:sp>
        <p:nvSpPr>
          <p:cNvPr id="49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E1B0-0E83-43AD-A68E-32EBA11A811A}"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4"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PGs:</a:t>
            </a:r>
            <a:endParaRPr b="0" lang="en-US" sz="26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stions regarding:</a:t>
            </a:r>
            <a:endParaRPr b="0" lang="en-US" sz="22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H Article 28 APG Policy, Rates &amp; Weights</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rve Outs</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yment Rules, or Implementation Issue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tact:</a:t>
            </a:r>
            <a:endParaRPr b="0" lang="en-US" sz="22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YS Department of Health </a:t>
            </a:r>
            <a:endParaRPr b="0" lang="en-US" sz="20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fice of Health Insurance Programs </a:t>
            </a:r>
            <a:endParaRPr b="0" lang="en-US" sz="2000" spc="-1" strike="noStrike">
              <a:solidFill>
                <a:srgbClr val="000000"/>
              </a:solidFill>
              <a:latin typeface="Lucida Sans Unicode"/>
            </a:endParaRPr>
          </a:p>
          <a:p>
            <a:pPr lvl="2" marL="85896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vision of Financial Planning and Policy</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ail address : </a:t>
            </a:r>
            <a:r>
              <a:rPr b="0" lang="en-US" sz="2000" spc="-1" strike="noStrike" u="sng">
                <a:solidFill>
                  <a:srgbClr val="ff8119"/>
                </a:solidFill>
                <a:uFillTx/>
                <a:latin typeface="Times New Roman"/>
                <a:ea typeface="Times New Roman"/>
                <a:hlinkClick r:id="rId1"/>
              </a:rPr>
              <a:t>apg@health.state.ny.us</a:t>
            </a:r>
            <a:r>
              <a:rPr b="0" lang="en-US" sz="2000" spc="-1" strike="noStrike">
                <a:solidFill>
                  <a:srgbClr val="000000"/>
                </a:solidFill>
                <a:latin typeface="Times New Roman"/>
                <a:ea typeface="Times New Roman"/>
              </a:rPr>
              <a:t> </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one : (518) 473-2160</a:t>
            </a:r>
            <a:endParaRPr b="0" lang="en-US" sz="2000" spc="-1" strike="noStrike">
              <a:solidFill>
                <a:srgbClr val="000000"/>
              </a:solidFill>
              <a:latin typeface="Lucida Sans Unicode"/>
            </a:endParaRPr>
          </a:p>
          <a:p>
            <a:pPr lvl="2" marL="858960" indent="-228600">
              <a:lnSpc>
                <a:spcPct val="80000"/>
              </a:lnSpc>
              <a:spcBef>
                <a:spcPts val="349"/>
              </a:spcBef>
              <a:buClr>
                <a:srgbClr val="2da2b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G web site; http://www.health.state.ny.us/health_care/medicaid/rates/apg/</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96"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01D9-530C-4024-98F4-BA7268E7B761}"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497" name="Title 3" descr=""/>
          <p:cNvPicPr/>
          <p:nvPr/>
        </p:nvPicPr>
        <p:blipFill>
          <a:blip r:embed="rId2"/>
          <a:stretch/>
        </p:blipFill>
        <p:spPr>
          <a:xfrm>
            <a:off x="426960" y="274680"/>
            <a:ext cx="8283600" cy="1182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illing Questions:</a:t>
            </a:r>
            <a:endParaRPr b="0" lang="en-US" sz="22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Managed Care Finance:</a:t>
            </a:r>
            <a:endParaRPr b="0" lang="en-US" sz="19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ontact Name: Nick Cioffi</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518) 474 – 5050</a:t>
            </a:r>
            <a:endParaRPr b="0" lang="en-US" sz="17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ee For Service:</a:t>
            </a:r>
            <a:r>
              <a:rPr b="0" lang="en-US" sz="1900" spc="-1" strike="noStrike">
                <a:solidFill>
                  <a:srgbClr val="000000"/>
                </a:solidFill>
                <a:latin typeface="Times New Roman"/>
                <a:ea typeface="Times New Roman"/>
              </a:rPr>
              <a:t>	</a:t>
            </a:r>
            <a:endParaRPr b="0" lang="en-US" sz="19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Provider enrollment and rate code assignments:</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Division of Provider Relations and Utilization Management</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518) 474-8161</a:t>
            </a:r>
            <a:endParaRPr b="0" lang="en-US" sz="17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Billing and Claims submissions:</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MedNY Call Center</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hone Number: 1-800-343-9000</a:t>
            </a:r>
            <a:endParaRPr b="0" lang="en-US" sz="1700" spc="-1" strike="noStrike">
              <a:solidFill>
                <a:srgbClr val="000000"/>
              </a:solidFill>
              <a:latin typeface="Lucida Sans Unicode"/>
            </a:endParaRPr>
          </a:p>
          <a:p>
            <a:pPr lvl="2" marL="858960" indent="-228600">
              <a:lnSpc>
                <a:spcPct val="80000"/>
              </a:lnSpc>
              <a:spcBef>
                <a:spcPts val="34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eMedNY and Computer Sciences Corporation (CSC)</a:t>
            </a:r>
            <a:endParaRPr b="0" lang="en-US" sz="1700" spc="-1" strike="noStrike">
              <a:solidFill>
                <a:srgbClr val="000000"/>
              </a:solidFill>
              <a:latin typeface="Lucida Sans Unicode"/>
            </a:endParaRPr>
          </a:p>
          <a:p>
            <a:pPr lvl="3" marL="1143000" indent="-228600">
              <a:lnSpc>
                <a:spcPct val="80000"/>
              </a:lnSpc>
              <a:spcBef>
                <a:spcPts val="349"/>
              </a:spcBef>
              <a:buClr>
                <a:srgbClr val="2da2bf"/>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ontact Guide: </a:t>
            </a:r>
            <a:r>
              <a:rPr b="0" lang="en-US" sz="1800" spc="-1" strike="noStrike" u="sng">
                <a:solidFill>
                  <a:srgbClr val="ff8119"/>
                </a:solidFill>
                <a:uFillTx/>
                <a:latin typeface="Times New Roman"/>
                <a:ea typeface="Times New Roman"/>
                <a:hlinkClick r:id="rId1"/>
              </a:rPr>
              <a:t>https://www.emedny.org/contacts/telephone%20quick%20reference.pdf</a:t>
            </a:r>
            <a:r>
              <a:rPr b="0" lang="en-US" sz="1800" spc="-1" strike="noStrike">
                <a:solidFill>
                  <a:srgbClr val="000000"/>
                </a:solidFill>
                <a:latin typeface="Times New Roman"/>
                <a:ea typeface="Times New Roman"/>
              </a:rPr>
              <a:t> </a:t>
            </a:r>
            <a:endParaRPr b="0" lang="en-US" sz="1800" spc="-1" strike="noStrike">
              <a:solidFill>
                <a:srgbClr val="000000"/>
              </a:solidFill>
              <a:latin typeface="Lucida Sans Unicode"/>
            </a:endParaRPr>
          </a:p>
        </p:txBody>
      </p:sp>
      <p:sp>
        <p:nvSpPr>
          <p:cNvPr id="499"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1DDF-1226-471E-A6EB-F354002F27B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0" name="Title 3" descr=""/>
          <p:cNvPicPr/>
          <p:nvPr/>
        </p:nvPicPr>
        <p:blipFill>
          <a:blip r:embed="rId2"/>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3" descr=""/>
          <p:cNvPicPr/>
          <p:nvPr/>
        </p:nvPicPr>
        <p:blipFill>
          <a:blip r:embed="rId1"/>
          <a:stretch/>
        </p:blipFill>
        <p:spPr>
          <a:xfrm>
            <a:off x="689040" y="609480"/>
            <a:ext cx="7772400" cy="1743120"/>
          </a:xfrm>
          <a:prstGeom prst="rect">
            <a:avLst/>
          </a:prstGeom>
          <a:ln w="0">
            <a:noFill/>
          </a:ln>
        </p:spPr>
      </p:pic>
      <p:sp>
        <p:nvSpPr>
          <p:cNvPr id="502" name="PlaceHolder 1"/>
          <p:cNvSpPr>
            <a:spLocks noGrp="1"/>
          </p:cNvSpPr>
          <p:nvPr>
            <p:ph type="subTitle"/>
          </p:nvPr>
        </p:nvSpPr>
        <p:spPr>
          <a:xfrm>
            <a:off x="1599840" y="2438280"/>
            <a:ext cx="6172200" cy="2819520"/>
          </a:xfrm>
          <a:prstGeom prst="rect">
            <a:avLst/>
          </a:prstGeom>
          <a:noFill/>
          <a:ln w="0">
            <a:noFill/>
          </a:ln>
        </p:spPr>
        <p:txBody>
          <a:bodyPr lIns="45720" rIns="4572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imes New Roman"/>
                <a:ea typeface="Times New Roman"/>
              </a:rPr>
              <a:t>“</a:t>
            </a:r>
            <a:r>
              <a:rPr b="1" i="1" lang="en-US" sz="3400" spc="-1" strike="noStrike">
                <a:solidFill>
                  <a:srgbClr val="000000"/>
                </a:solidFill>
                <a:latin typeface="Times New Roman"/>
                <a:ea typeface="Times New Roman"/>
              </a:rPr>
              <a:t>January 31, 2012”</a:t>
            </a:r>
            <a:endParaRPr b="0" lang="en-US" sz="34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No Extensions</a:t>
            </a:r>
            <a:endParaRPr b="0" lang="en-US" sz="30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UPL Calculation Requirement</a:t>
            </a:r>
            <a:endParaRPr b="0" lang="en-US" sz="30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Indigent Care</a:t>
            </a:r>
            <a:endParaRPr b="0" lang="en-US" sz="3000" spc="-1" strike="noStrike">
              <a:solidFill>
                <a:srgbClr val="000000"/>
              </a:solidFill>
              <a:latin typeface="Lucida Sans Unicode"/>
            </a:endParaRPr>
          </a:p>
        </p:txBody>
      </p:sp>
      <p:sp>
        <p:nvSpPr>
          <p:cNvPr id="503"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6CA5-7D7A-411D-B523-5F81DF640E2E}"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E0BA-A46C-432C-9026-5D2747F4F4DF}"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505" name="Title 3" descr=""/>
          <p:cNvPicPr/>
          <p:nvPr/>
        </p:nvPicPr>
        <p:blipFill>
          <a:blip r:embed="rId1"/>
          <a:stretch/>
        </p:blipFill>
        <p:spPr>
          <a:xfrm>
            <a:off x="457200" y="1895400"/>
            <a:ext cx="8229600" cy="26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1" descr=""/>
          <p:cNvPicPr/>
          <p:nvPr/>
        </p:nvPicPr>
        <p:blipFill>
          <a:blip r:embed="rId1"/>
          <a:stretch/>
        </p:blipFill>
        <p:spPr>
          <a:xfrm>
            <a:off x="457200" y="1432080"/>
            <a:ext cx="8229600" cy="4572000"/>
          </a:xfrm>
          <a:prstGeom prst="rect">
            <a:avLst/>
          </a:prstGeom>
          <a:ln w="0">
            <a:noFill/>
          </a:ln>
        </p:spPr>
      </p:pic>
      <p:sp>
        <p:nvSpPr>
          <p:cNvPr id="38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BF10-311B-41E8-ACF7-54D6580705C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3" name="Title 2" descr=""/>
          <p:cNvPicPr/>
          <p:nvPr/>
        </p:nvPicPr>
        <p:blipFill>
          <a:blip r:embed="rId2"/>
          <a:stretch/>
        </p:blipFill>
        <p:spPr>
          <a:xfrm>
            <a:off x="457200" y="274680"/>
            <a:ext cx="8229600" cy="1243080"/>
          </a:xfrm>
          <a:prstGeom prst="rect">
            <a:avLst/>
          </a:prstGeom>
          <a:ln w="0">
            <a:noFill/>
          </a:ln>
        </p:spPr>
      </p:pic>
      <p:graphicFrame>
        <p:nvGraphicFramePr>
          <p:cNvPr id="384" name=""/>
          <p:cNvGraphicFramePr/>
          <p:nvPr/>
        </p:nvGraphicFramePr>
        <p:xfrm>
          <a:off x="1828800" y="3581280"/>
          <a:ext cx="6172200" cy="2378160"/>
        </p:xfrm>
        <a:graphic>
          <a:graphicData uri="http://schemas.openxmlformats.org/drawingml/2006/table">
            <a:tbl>
              <a:tblPr/>
              <a:tblGrid>
                <a:gridCol w="3200400"/>
                <a:gridCol w="824040"/>
                <a:gridCol w="699840"/>
                <a:gridCol w="696960"/>
                <a:gridCol w="750960"/>
              </a:tblGrid>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porting Year</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000000"/>
                        </a:solidFill>
                        <a:latin typeface="Lucida Sans Unicod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000000"/>
                        </a:solidFill>
                        <a:latin typeface="Lucida Sans Unicod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Facilitie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92</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endParaRPr b="0" lang="en-US" sz="18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3</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led a Cost Report</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2</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8</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d NOT file a Cost Report</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5</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ea typeface="Times New Roman"/>
                        </a:rPr>
                        <a:t>NON-SUBMISSIONS BY TYPE:</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Lucida Sans Unicode"/>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inic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7</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mb Surg Centers*</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4</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Lucida Sans Unicod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000000"/>
                        </a:solidFill>
                        <a:latin typeface="Lucida Sans Unicod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Box 10"/>
          <p:cNvSpPr/>
          <p:nvPr/>
        </p:nvSpPr>
        <p:spPr>
          <a:xfrm>
            <a:off x="3276720" y="609588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600" spc="-1" strike="noStrike">
                <a:solidFill>
                  <a:srgbClr val="000000"/>
                </a:solidFill>
                <a:latin typeface="Times New Roman"/>
                <a:ea typeface="Times New Roman"/>
              </a:rPr>
              <a:t>Amb Surg Centers were not required to file until 2008.</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Medicaid utilization reported on the AHCF does not agree with the Medicaid Paid Claims in eMedNY</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Medicaid paid claims in eMedNY greater than Total threshold visits on AHCF</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HCF Medicaid charge per visit should NOT equal the Medicaid rate.  Facilities should have a uniform charge structure applied to all payer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9F27-5158-4B20-BBBC-00309FA82CE6}"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88" name="Title 2" descr=""/>
          <p:cNvPicPr/>
          <p:nvPr/>
        </p:nvPicPr>
        <p:blipFill>
          <a:blip r:embed="rId1"/>
          <a:stretch/>
        </p:blipFill>
        <p:spPr>
          <a:xfrm>
            <a:off x="457200" y="762120"/>
            <a:ext cx="8229600" cy="120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3" descr=""/>
          <p:cNvPicPr/>
          <p:nvPr/>
        </p:nvPicPr>
        <p:blipFill>
          <a:blip r:embed="rId1"/>
          <a:stretch/>
        </p:blipFill>
        <p:spPr>
          <a:xfrm>
            <a:off x="523800" y="993600"/>
            <a:ext cx="8272440" cy="3127680"/>
          </a:xfrm>
          <a:prstGeom prst="rect">
            <a:avLst/>
          </a:prstGeom>
          <a:ln w="0">
            <a:noFill/>
          </a:ln>
        </p:spPr>
      </p:pic>
      <p:sp>
        <p:nvSpPr>
          <p:cNvPr id="390"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9DA2-FB4E-4D5A-8FF4-F06A4595606A}" type="slidenum">
              <a:rPr b="0" lang="en-US" sz="1000" spc="-1" strike="noStrike">
                <a:solidFill>
                  <a:srgbClr val="ffffff"/>
                </a:solidFill>
                <a:latin typeface="Lucida Sans Unicode"/>
              </a:rPr>
              <a:t>&lt;number&gt;</a:t>
            </a:fld>
            <a:endParaRPr b="0" lang="en-US" sz="1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905120"/>
            <a:ext cx="8229600" cy="410184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ll Article 28 Diagnostic &amp; Treatment Centers and Ambulatory Surgery Centers that have a full year of actual costs and statistical experience. (Part 86-4.19 (b))</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33BB-9A10-483A-A17F-3767C7ED5F2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3" name="Title 2" descr=""/>
          <p:cNvPicPr/>
          <p:nvPr/>
        </p:nvPicPr>
        <p:blipFill>
          <a:blip r:embed="rId1"/>
          <a:stretch/>
        </p:blipFill>
        <p:spPr>
          <a:xfrm>
            <a:off x="457200" y="762120"/>
            <a:ext cx="8229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2133720"/>
            <a:ext cx="8229600" cy="41148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 “All financial and statistical reports shall be certified by an independent licensed public accountant or an independent certified public accountant on forms prescribed and provided by the Department. A copy of the audited financial statements shall accompany the financial and statistical reports…”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b) The requirements of subdivision (a) of this section shall not apply to facilities operated by units of government of the State of New York whose total operating costs are less than $100,000.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c) All financial and statistical reports shall be certified by the operator of a proprietary facility, an officer of a voluntary facility or the public official responsible for the operation of a public facility, on forms prescribed and provided by the department.</a:t>
            </a:r>
            <a:br>
              <a:rPr sz="2100"/>
            </a:b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395"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B61A-DD90-434C-9673-2A8D8B98F0A9}"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396" name="Title 3" descr=""/>
          <p:cNvPicPr/>
          <p:nvPr/>
        </p:nvPicPr>
        <p:blipFill>
          <a:blip r:embed="rId1"/>
          <a:stretch/>
        </p:blipFill>
        <p:spPr>
          <a:xfrm>
            <a:off x="457200" y="1395360"/>
            <a:ext cx="8229600" cy="701640"/>
          </a:xfrm>
          <a:prstGeom prst="rect">
            <a:avLst/>
          </a:prstGeom>
          <a:ln w="0">
            <a:noFill/>
          </a:ln>
        </p:spPr>
      </p:pic>
      <p:pic>
        <p:nvPicPr>
          <p:cNvPr id="397" name="TextBox 5" descr=""/>
          <p:cNvPicPr/>
          <p:nvPr/>
        </p:nvPicPr>
        <p:blipFill>
          <a:blip r:embed="rId2"/>
          <a:stretch/>
        </p:blipFill>
        <p:spPr>
          <a:xfrm>
            <a:off x="689040" y="560520"/>
            <a:ext cx="7692840" cy="87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20:33:54Z</dcterms:created>
  <dc:creator>sss07</dc:creator>
  <dc:description/>
  <dc:language>en-US</dc:language>
  <cp:lastModifiedBy>Kim Fraim</cp:lastModifiedBy>
  <dcterms:modified xsi:type="dcterms:W3CDTF">2013-05-08T13:54:34Z</dcterms:modified>
  <cp:revision>194</cp:revision>
  <dc:subject/>
  <dc:title>2010 AHCF cost report</dc:title>
</cp:coreProperties>
</file>